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802F-957E-453D-BF3C-198F1D820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0114-5F39-4741-8D2C-D7FD579E0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D44F-6976-4E13-9321-D7469584D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03B0-3C81-48E9-8BE5-4DF71AF82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4E34-BDE7-409F-86FB-17DF4EE83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2FC5-0583-46A6-A458-353046575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3BAB-6C10-40F7-8E07-58C4DE5E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C88E-5959-4996-9808-3F9461666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BCF9-528B-44CC-9914-378654251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F928-6BAF-4B7A-AB8A-A4A59283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A20D-EDFC-4E26-9DD0-76D6C5C7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A2B5-CD69-4730-872A-B0C05109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578D9-461E-4278-87B7-1DE1C242CC61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upload.wikimedia.org/wikipedia/commons/1/10/Austria_Neusiedlersee_flyby.jp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6000" spc="-1" strike="noStrike">
                <a:solidFill>
                  <a:srgbClr val="000000"/>
                </a:solidFill>
                <a:latin typeface="Cooper Std Black"/>
              </a:rPr>
              <a:t>Der Neusiedler Se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Calibri"/>
              </a:rPr>
              <a:t>Der Nationalpa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http://www.reise-karhu.de/tl_files/Autoren/Joerg_Schaar/Bilder/43%20-%20Neusiedler%20See/Pusztaromantik%20im%20Seewinkel.png"/>
          <p:cNvPicPr/>
          <p:nvPr/>
        </p:nvPicPr>
        <p:blipFill>
          <a:blip r:embed="rId3"/>
          <a:stretch/>
        </p:blipFill>
        <p:spPr>
          <a:xfrm>
            <a:off x="500040" y="1571760"/>
            <a:ext cx="821520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Calibri"/>
              </a:rPr>
              <a:t>Weinba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Durch das günstige Klima mit 2000 Sonnenstunden jährlich wird in der Region auch viel </a:t>
            </a: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Weinbau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etrieben, wobei einerseits viel Wein in andere Regionen verkauft wird. In den </a:t>
            </a: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Weinbauregionen Neusiedler See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und </a:t>
            </a: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Neusiedlersee-Hügelland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werden insgesamt rund. 16.500 Hektar bewirtschafte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Calibri"/>
              </a:rPr>
              <a:t>Sehenswürdigkei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Eines der schönsten Schlösser Ungarns ist in Fertöd zu finden, das Schloss Esterházy gilt als „Versailles“ Ungarns und beherbergt unter anderem ein Joseph Haydn-Museum. Eine besondere Attraktion ist der Steinbruch</a:t>
            </a: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 in Fertőrákos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mit den riesigen Höhlen, die für Theater- und Opernaufführungen genutzt werden. In der Nähe befindet sich in einer Höhle das Mithras-Heiligtum, ein gut erhaltenes Relief aus der Römerzei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Calibri"/>
              </a:rPr>
              <a:t>Sehenswürdigkei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http://t0.gstatic.com/images?q=tbn:ANd9GcQ21QWc2zSx8xy7tcx0RQP39WO1TM1DXILsbkNewOKJnrpljpTp-w"/>
          <p:cNvPicPr/>
          <p:nvPr/>
        </p:nvPicPr>
        <p:blipFill>
          <a:blip r:embed="rId3"/>
          <a:stretch/>
        </p:blipFill>
        <p:spPr>
          <a:xfrm>
            <a:off x="5143680" y="3786120"/>
            <a:ext cx="3500280" cy="2286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http://archivum.epiteszforum.hu/mitholmikor/hir_kepek/s_fertod.jpg"/>
          <p:cNvPicPr/>
          <p:nvPr/>
        </p:nvPicPr>
        <p:blipFill>
          <a:blip r:embed="rId4"/>
          <a:stretch/>
        </p:blipFill>
        <p:spPr>
          <a:xfrm>
            <a:off x="2500200" y="1643040"/>
            <a:ext cx="4286520" cy="2071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http://t2.gstatic.com/images?q=tbn:ANd9GcRiqrsfHYiXLJFoYGkSHbflK5XYDathRzd5JmAuQoHH8_87sf6KIg"/>
          <p:cNvPicPr/>
          <p:nvPr/>
        </p:nvPicPr>
        <p:blipFill>
          <a:blip r:embed="rId5"/>
          <a:stretch/>
        </p:blipFill>
        <p:spPr>
          <a:xfrm>
            <a:off x="785880" y="3857760"/>
            <a:ext cx="321480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Calibri"/>
              </a:rPr>
              <a:t>Die geographische L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Der </a:t>
            </a: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Neusiedler See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(ungar</a:t>
            </a: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isch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de-DE" sz="3200" spc="-1" strike="noStrike">
                <a:solidFill>
                  <a:srgbClr val="000000"/>
                </a:solidFill>
                <a:latin typeface="Calibri"/>
              </a:rPr>
              <a:t>Fertő-tó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de-DE" sz="3200" spc="-1" strike="noStrike">
                <a:solidFill>
                  <a:srgbClr val="000000"/>
                </a:solidFill>
                <a:latin typeface="Calibri"/>
              </a:rPr>
              <a:t>fertő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bedeutet wortwörtlich „Sumpf“) ist wie der </a:t>
            </a: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Plattensee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einer der wenigen </a:t>
            </a: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Steppenseen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in Europa. Der See liegt sowohl auf </a:t>
            </a: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österreichischem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ls auch auf </a:t>
            </a: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ungarischem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Staatsgebi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http://4.bp.blogspot.com/_P83eArQZjRI/SssJwwhzLqI/AAAAAAAABGs/EQEgFBbZKRs/s400/fertoto-terkep.jpg"/>
          <p:cNvPicPr/>
          <p:nvPr/>
        </p:nvPicPr>
        <p:blipFill>
          <a:blip r:embed="rId3"/>
          <a:stretch/>
        </p:blipFill>
        <p:spPr>
          <a:xfrm>
            <a:off x="428760" y="285840"/>
            <a:ext cx="828648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Der See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zeichnet sich durch seinen Schilfgürtel, seine geringe Tiefe und sein mildes und windiges Klima aus. Die einzigartige </a:t>
            </a: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Fauna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und </a:t>
            </a: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Flora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wird durch die beiden Nationalparks Neusiedler See-Seewinkel und Fertő-Hanság und die Ernennung zum </a:t>
            </a: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UNESCO-Welterbe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mit der Bezeichnung </a:t>
            </a: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 Kulturlandschaft Fertő/Neusiedler See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hervorgehob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Calibri"/>
              </a:rPr>
              <a:t>Ausmaß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Die Seefläche beträgt je nach Wasserstand durchschnittlich 285 km², wovon 220 km² in Österreich und 65 km² in Ungarn liegen. Die Hauptausdehnung in nord-südlicher Richtung beträgt 34 Kilometer, die Breite zwischen 4,5 und 8 Kilometer. Die Höhe der </a:t>
            </a: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Erdkrümmung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eträgt zwischen </a:t>
            </a: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Neusiedl am See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und </a:t>
            </a: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Mörbisch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9,60 Meter, so dass man nicht von einem Ende zum anderen sehen kan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alibri"/>
              </a:rPr>
              <a:t>Der Neusiedler See von der nördlichen Sei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Datei:Austria Neusiedlersee flyby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040" y="1500120"/>
            <a:ext cx="814392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Calibri"/>
              </a:rPr>
              <a:t>Schilfgürt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Der See ist fast vollständig von einem </a:t>
            </a: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Schilfgürtel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umgeben, er bildet den Lebensraum der einzigartigen Tierwelt der Region und ist nach dem </a:t>
            </a: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Donaudelta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das größte zusammenhängende Schilfgebiet in Europa. Durch die vorherrschende nordwestliche Luftströmung wächst am Ostufer deutlich weniger Schilf als am Westuf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Calibri"/>
              </a:rPr>
              <a:t>Schilfgürt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http://mw2.google.com/mw-panoramio/photos/small/2650078.jpg"/>
          <p:cNvPicPr/>
          <p:nvPr/>
        </p:nvPicPr>
        <p:blipFill>
          <a:blip r:embed="rId3"/>
          <a:stretch/>
        </p:blipFill>
        <p:spPr>
          <a:xfrm>
            <a:off x="500040" y="1643040"/>
            <a:ext cx="821520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Calibri"/>
              </a:rPr>
              <a:t>Der Nationalpa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Bereits 1935 gibt es erste Bestrebungen einen Nationalpark einzurichten. Doch erst 1993 wurde der See mit seinem Umland tatsächlich auf Grund der für Mitteleuropa einzigartigen Flora und Fauna zum </a:t>
            </a:r>
            <a:r>
              <a:rPr b="0" lang="hu-HU" sz="3000" spc="-1" strike="noStrike">
                <a:solidFill>
                  <a:srgbClr val="000000"/>
                </a:solidFill>
                <a:latin typeface="Calibri"/>
              </a:rPr>
              <a:t>Nationalpark </a:t>
            </a: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erklärt. Der Park besteht aus dem österreichischen Teil mit 9700 Hektar und dem  23.500 Hekt</a:t>
            </a:r>
            <a:r>
              <a:rPr b="0" lang="hu-HU" sz="30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 weit größeren ungarischen Teil </a:t>
            </a:r>
            <a:r>
              <a:rPr b="0" lang="hu-HU" sz="3000" spc="-1" strike="noStrike">
                <a:solidFill>
                  <a:srgbClr val="000000"/>
                </a:solidFill>
                <a:latin typeface="Calibri"/>
              </a:rPr>
              <a:t>Fertő-Hanság.</a:t>
            </a: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 Da am Neusiedler See das westliche Ende des eurasischen </a:t>
            </a:r>
            <a:r>
              <a:rPr b="0" lang="hu-HU" sz="3000" spc="-1" strike="noStrike">
                <a:solidFill>
                  <a:srgbClr val="000000"/>
                </a:solidFill>
                <a:latin typeface="Calibri"/>
              </a:rPr>
              <a:t>Steppengürtels </a:t>
            </a: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liegt, sind hier schon solche typischen Einrichtungen wie der </a:t>
            </a:r>
            <a:r>
              <a:rPr b="0" lang="hu-HU" sz="3000" spc="-1" strike="noStrike">
                <a:solidFill>
                  <a:srgbClr val="000000"/>
                </a:solidFill>
                <a:latin typeface="Calibri"/>
              </a:rPr>
              <a:t>Ziehbrunnen</a:t>
            </a: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 zu finden, der eigentlich ein romantisches Motiv der Pus</a:t>
            </a:r>
            <a:r>
              <a:rPr b="0" lang="hu-HU" sz="3000" spc="-1" strike="noStrike">
                <a:solidFill>
                  <a:srgbClr val="000000"/>
                </a:solidFill>
                <a:latin typeface="Calibri"/>
              </a:rPr>
              <a:t>zta</a:t>
            </a: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 is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2T15:48:10Z</dcterms:created>
  <dc:creator>Székács József Közoktatási Intézmény</dc:creator>
  <dc:description/>
  <dc:language>en-US</dc:language>
  <cp:lastModifiedBy>Székács József Közoktatási Intézmény</cp:lastModifiedBy>
  <dcterms:modified xsi:type="dcterms:W3CDTF">2011-03-12T17:16:16Z</dcterms:modified>
  <cp:revision>6</cp:revision>
  <dc:subject/>
  <dc:title>Der Neusiedler See</dc:title>
</cp:coreProperties>
</file>