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47F-9D3C-45A7-8848-6B3BD87A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84B-62C3-4B89-99B1-1E14014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F5F-AAC0-4851-8B01-182322C3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DB2-C8CF-4ADB-9FF3-42A8218F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AAD-AF8A-47B3-99B2-558ACD91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5B9D-07CA-4DED-9299-4FCD68D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636D-A549-4EEB-B471-181C2DE7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C7E6-F186-4546-B1C2-7194BAD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70AC-3F11-44DE-9A57-6F1E2D46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8E37-A69F-4A57-9FC8-A4DA21F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ABF2-5AC6-4384-A7B9-B4CB3541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834-8AAF-4A74-8C72-13A63F9E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D697-4D22-48D5-956A-A2F6570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7135-E3FD-463B-99AA-C41695CD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A3FB-6C2A-4DB1-9CA2-4F8DC38D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BDBF-C328-47CD-8142-4A798BDB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85FE-5A58-4B76-B3D8-F88F55E5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8A88B-7118-4BCE-B811-BEB4C09F3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FDA10-09BD-4CB9-BFA9-82715413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B4A60-CC77-432F-962A-56FF943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44F68-BFD9-4EC5-A579-05882E43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0A822-3977-40D5-A878-9F3F55B7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BF1-8939-4B32-8377-69238A4C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0AAE5-A734-45CC-AB6C-804EA855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7878D-7CB6-43DF-AC7C-D9EBB78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4FAEF9-1810-409A-9817-5A7F6447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0B1F5-3980-4F2E-8556-DC49ABE3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20CD5-9BB5-4877-8A30-534CF59F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2EC36D-3649-4D93-B72A-AE07BF72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085EF-85BA-4E35-A00E-9E127323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C3946-46AE-4581-B035-0F81EE46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F3E25-1F5A-4E43-A2DC-95BEE609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A18D1-2E08-4A70-995B-E8EFD7C5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6B1-2C83-4176-B8A4-E5B7FDE0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BEA5-C20A-4646-9B9F-6FE01415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21E58-97FD-4082-9A72-27BB4E0D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C059D-5673-4075-A3CD-A3517AD5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10DC-BBAE-4352-9671-0CF1E38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92A2-07E1-4B08-AAF7-2FF48FA1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4568C-51E0-4E58-9AEE-E1C6E328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2132A-7A06-4C09-830B-70836CEA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F86C-BDCB-408E-9354-DDACB8A3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75DA-C226-4959-B9CC-797EDA55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1130-B059-49CF-831A-5F775E3E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19B-9575-4886-B48A-C5FD2A0C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A97F-92AA-4B04-A623-CDF04B52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0736-15A8-4748-AFA4-79A190CA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D0680-5EC4-472F-85C3-A834EEE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CB2F-C485-401E-A85C-510B8F7A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992EC-AB28-46EC-9DED-C200467D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5455C-7B69-461B-9DDF-DEF2023E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D6D9-2F79-41FA-AC5D-0F3C056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79F39-3F43-4DB0-BB4D-0DCD4359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60DB4-1386-4FE4-AC68-B8EBF517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B1E47-2572-4583-B192-3DB0A416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BA9-5BCE-4EE0-A224-E773F10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7A9ED-7566-4CA7-A2AD-0CF12CF7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D1DB9-2147-498C-B30B-8F13CE0A3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2267B-BC86-4CB3-A439-494D2062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8016F3-34C7-4F4A-9656-23158C70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3B58E4-B0FE-490F-BFBD-D9AB4933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9883D-DFF3-4733-BA83-F7391E03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6AF1A0-32E6-48E8-B358-B6E8F626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0259C-ACAF-4B77-9099-32C52FA2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971C4-6311-4E81-83A2-E9F339FB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F5F62-8E63-44F6-B8A7-63BA125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D17-E89F-46B8-889F-2B29695A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BB7847-D7F3-44B2-984C-FF23A594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97FBD-660D-4047-A640-BFA1E124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782C6-3D71-44F6-9DBE-FEAC7A39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CF1EB-EB3E-467E-B0D6-B24BE07C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5AD5E-C5C2-4668-A64A-DBDBAB9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9D190-200A-401F-AE94-929F63E6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56F5-1946-4DE1-B8D8-3AEF88CF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DA942-4119-4EA4-B36C-5A6DEF6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D5F23-619D-4C68-8A66-DAA4B24E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8DF39-FE91-45AC-B08B-B5ED7C5F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FEF-1AAC-4069-8D0E-7C2ABA2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75A9-C490-4465-B09A-64E6AA34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67A8-AD02-4D76-A39E-FB504BBD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87AD4-8D8F-49AD-A1B9-AB8556D2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A1557-A209-4D76-9113-F7AF0D60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54A64-8D97-42C1-B956-C5542A70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6FB-D941-467B-893A-EF6FD7D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3469-B66E-444A-963A-AE2EE795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7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3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4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CE47-C7CE-4F2F-803A-F268CD6534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36DE-9A5B-4F99-94C7-40E697703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7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9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6CC-0F7E-4878-88E3-4566AF70C6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468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469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483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6EC4-DA1C-4614-9F6F-523A1C279B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5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2A7E-9B26-42FE-BC84-04E0930DBE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2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8CCF-4E52-4CC2-AE10-E7E3082FB2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620360" y="241200"/>
            <a:ext cx="50072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ffcc"/>
                </a:solidFill>
                <a:latin typeface="Tahoma"/>
              </a:rPr>
              <a:t>Basilica Aglonensi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84" name="Picture 6" descr="latgale_aglona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11"/>
          <p:cNvSpPr/>
          <p:nvPr/>
        </p:nvSpPr>
        <p:spPr>
          <a:xfrm>
            <a:off x="2195640" y="6453360"/>
            <a:ext cx="3816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ffffff"/>
                </a:solidFill>
                <a:latin typeface="Tahoma"/>
              </a:rPr>
              <a:t>Marika Tēva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Der Friedhof von </a:t>
            </a:r>
            <a:r>
              <a:rPr b="0" lang="lv-LV" sz="44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gl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541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ffcc"/>
                </a:solidFill>
                <a:latin typeface="Tahoma"/>
              </a:rPr>
              <a:t> 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Sobald in Aglon die dominikanische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ter eingewandert waren,haben sie einen Friedhof eingerichtet.Dort wurden die Adligen und die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inwohner aus 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heren und entfernten Umgebung begraben. Unge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hr ab 1841 begann man auch die dominikanische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V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ter und Geistliche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zu begraben.Die Identifikation von Gra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b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h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gel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ist nicht m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ö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glich, weil die Ordensbr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der und Priester unter einem Denkmal begraben wurden.Einzelne Denkm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l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r sind nur 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r einige beachtenswerte Personen.Aus Metrikb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cher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kann man erfahren,dass im Friedhof von Aglon 61 Priester ruhe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0" name="Picture 4" descr="kapi"/>
          <p:cNvPicPr/>
          <p:nvPr/>
        </p:nvPicPr>
        <p:blipFill>
          <a:blip r:embed="rId1"/>
          <a:stretch/>
        </p:blipFill>
        <p:spPr>
          <a:xfrm>
            <a:off x="1476360" y="3068640"/>
            <a:ext cx="61214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in Bauer,namens Kristaps Mateisans ha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vom Spiku Dorf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er Cirisha See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ein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Kind gef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rt,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um es zu taufen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Als sie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er den See fuhren,begann pl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ö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  <a:ea typeface="Tahoma"/>
              </a:rPr>
              <a:t>t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zlich ein Gewitter, und die Wellen begannen das Boot zu schaukeln.Der Bauer war mit der Bootsteuerung so besch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tigt,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ass er nicht gemerkt hat, wie das Kind ins Wasser fiel.Als Kristaps das sah,begann  er 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gstlich in lauter Stimme die Mutter Gottes von Aglohn um Hilfe zu rufen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In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diesem Augenblick befand sich das Kind auf einer 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salhaften Weise am Ufer und die Leute, die am Ufer standen, haben es gesund und munter aus dem See herausgezo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2" name="Picture 12" descr="Old Boat No 2"/>
          <p:cNvPicPr/>
          <p:nvPr/>
        </p:nvPicPr>
        <p:blipFill>
          <a:blip r:embed="rId1"/>
          <a:stretch/>
        </p:blipFill>
        <p:spPr>
          <a:xfrm>
            <a:off x="762120" y="2589120"/>
            <a:ext cx="64022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Der Kreuzwe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Tausende von Gl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ubigen versammeln sich jedes Jahr mit Kerzen in der Hand auf dem sakralen Platz, um am traditionellen Fest Maria Himmelfahrt teilzunehmen Dabei werden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a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 vierzehn Stellen stehend an die Leiden von Jesus Christ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i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gedach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5" name="Picture 4" descr="mid_36139"/>
          <p:cNvPicPr/>
          <p:nvPr/>
        </p:nvPicPr>
        <p:blipFill>
          <a:blip r:embed="rId1"/>
          <a:stretch/>
        </p:blipFill>
        <p:spPr>
          <a:xfrm>
            <a:off x="1979640" y="3213000"/>
            <a:ext cx="51134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5" descr="mid_36147"/>
          <p:cNvPicPr/>
          <p:nvPr/>
        </p:nvPicPr>
        <p:blipFill>
          <a:blip r:embed="rId1"/>
          <a:stretch/>
        </p:blipFill>
        <p:spPr>
          <a:xfrm>
            <a:off x="4535640" y="115920"/>
            <a:ext cx="4608360" cy="3071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IMG_2524_ab_wm"/>
          <p:cNvPicPr/>
          <p:nvPr/>
        </p:nvPicPr>
        <p:blipFill>
          <a:blip r:embed="rId2"/>
          <a:stretch/>
        </p:blipFill>
        <p:spPr>
          <a:xfrm>
            <a:off x="0" y="115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7" descr="IMG_2792_ab_wm"/>
          <p:cNvPicPr/>
          <p:nvPr/>
        </p:nvPicPr>
        <p:blipFill>
          <a:blip r:embed="rId3"/>
          <a:stretch/>
        </p:blipFill>
        <p:spPr>
          <a:xfrm>
            <a:off x="0" y="299736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8" descr="mid_36145"/>
          <p:cNvPicPr/>
          <p:nvPr/>
        </p:nvPicPr>
        <p:blipFill>
          <a:blip r:embed="rId4"/>
          <a:stretch/>
        </p:blipFill>
        <p:spPr>
          <a:xfrm>
            <a:off x="4716360" y="3141720"/>
            <a:ext cx="44276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ffff99"/>
                </a:solidFill>
                <a:latin typeface="Tahoma"/>
              </a:rPr>
              <a:t>Vielen Dank f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lv-LV" sz="4000" spc="-1" strike="noStrike">
                <a:solidFill>
                  <a:srgbClr val="ffff99"/>
                </a:solidFill>
                <a:latin typeface="Tahoma"/>
              </a:rPr>
              <a:t>r die Aufmerksamkeit!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586320" y="60213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ahoma"/>
              </a:rPr>
              <a:t>Marika Tēvai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3635280" cy="40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er heilige Ort Aglon und sein Herz ist unbestreitbar die katholiche Kirche,die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das Zentrum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und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des Katolizismus in  Lettland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und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ine Heiligstelle von Weltbedeutung ist. Der dominikanische Orden hat in Aglon ein Kloster geg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det und ein Jahr sp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er die erste Kirche, damals aus Holz,gebaut. Als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die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im Jahr 1699 gebaut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Kirche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niede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gebrannt war, wurde 1768-1780 ein p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chtiges Klostergeb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ude-Kirche im Barockstil aus Ziegeln mit zwei 60 m hohen T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rmen gebaut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87" name="Picture 10" descr="multimedia"/>
          <p:cNvPicPr/>
          <p:nvPr/>
        </p:nvPicPr>
        <p:blipFill>
          <a:blip r:embed="rId1"/>
          <a:stretch/>
        </p:blipFill>
        <p:spPr>
          <a:xfrm>
            <a:off x="3635280" y="0"/>
            <a:ext cx="487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99"/>
                </a:solidFill>
                <a:latin typeface="Tahoma"/>
              </a:rPr>
              <a:t>Pilgerfahrtsort in Lett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89" name="Picture 8" descr="DSCN2348"/>
          <p:cNvPicPr/>
          <p:nvPr/>
        </p:nvPicPr>
        <p:blipFill>
          <a:blip r:embed="rId1"/>
          <a:stretch/>
        </p:blipFill>
        <p:spPr>
          <a:xfrm>
            <a:off x="1692360" y="189000"/>
            <a:ext cx="59990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Picture 5" descr="image-4976"/>
          <p:cNvPicPr/>
          <p:nvPr/>
        </p:nvPicPr>
        <p:blipFill>
          <a:blip r:embed="rId1"/>
          <a:stretch/>
        </p:blipFill>
        <p:spPr>
          <a:xfrm>
            <a:off x="3635280" y="0"/>
            <a:ext cx="5246640" cy="39355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aglona_1943"/>
          <p:cNvPicPr/>
          <p:nvPr/>
        </p:nvPicPr>
        <p:blipFill>
          <a:blip r:embed="rId2"/>
          <a:stretch/>
        </p:blipFill>
        <p:spPr>
          <a:xfrm>
            <a:off x="0" y="0"/>
            <a:ext cx="3816360" cy="34210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6753250"/>
          <p:cNvPicPr/>
          <p:nvPr/>
        </p:nvPicPr>
        <p:blipFill>
          <a:blip r:embed="rId3"/>
          <a:stretch/>
        </p:blipFill>
        <p:spPr>
          <a:xfrm>
            <a:off x="179280" y="2492280"/>
            <a:ext cx="3275280" cy="436572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779640" y="4149360"/>
            <a:ext cx="4940280" cy="13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Die Gesamtfl</a:t>
            </a:r>
            <a:r>
              <a:rPr b="1" lang="en-US" sz="1800" spc="-1" strike="noStrike">
                <a:solidFill>
                  <a:srgbClr val="ffff99"/>
                </a:solidFill>
                <a:latin typeface="CG Times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che der Basili</a:t>
            </a:r>
            <a:r>
              <a:rPr b="1" lang="lv-LV" sz="1600" spc="-1" strike="noStrike">
                <a:solidFill>
                  <a:srgbClr val="ffff99"/>
                </a:solidFill>
                <a:latin typeface="CG Times"/>
              </a:rPr>
              <a:t>c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a in Aglon umfasst 1720 m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²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 und ungef</a:t>
            </a:r>
            <a:r>
              <a:rPr b="1" lang="en-US" sz="1800" spc="-1" strike="noStrike">
                <a:solidFill>
                  <a:srgbClr val="ffff99"/>
                </a:solidFill>
                <a:latin typeface="CG Times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hr ebenso grossen Keller(Gesamtfl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che 3186 m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²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). Das Geb</a:t>
            </a:r>
            <a:r>
              <a:rPr b="1" lang="en-US" sz="1800" spc="-1" strike="noStrike">
                <a:solidFill>
                  <a:srgbClr val="ffff99"/>
                </a:solidFill>
                <a:latin typeface="CG Times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ude besteht aus zwei Stockwerken oben und einem unter</a:t>
            </a:r>
            <a:r>
              <a:rPr b="1" lang="lv-LV" sz="1600" spc="-1" strike="noStrike">
                <a:solidFill>
                  <a:srgbClr val="ffff99"/>
                </a:solidFill>
                <a:latin typeface="CG Times"/>
              </a:rPr>
              <a:t>en</a:t>
            </a:r>
            <a:r>
              <a:rPr b="1" lang="en-US" sz="1600" spc="-1" strike="noStrike">
                <a:solidFill>
                  <a:srgbClr val="ffff99"/>
                </a:solidFill>
                <a:latin typeface="CG Times"/>
              </a:rPr>
              <a:t> Stock.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3058920" y="691920"/>
            <a:ext cx="2879640" cy="54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Die erste Holzkirche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wurd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in Aglon zu Ehren der Himmelfahrt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der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heiligen.Jungfrau Maria aufgebaut. Die Kirche wurde vom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Livl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ndischen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Bischof am 10.September 1751 eingeweiht. In diese Kirche wurde das Heiligenbild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der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Wundert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terin der Mutter Gottes hingelegt.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s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wurde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in Byzanz gemalt, aber sp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ter wurde es vom Imperator Manuil des ll dem Gross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rsten Litauens Vitautus, der im Jahr 1380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das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Christentum angenommen hat,geschenk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5" name="Picture 4" descr="icon_gold"/>
          <p:cNvPicPr/>
          <p:nvPr/>
        </p:nvPicPr>
        <p:blipFill>
          <a:blip r:embed="rId2"/>
          <a:stretch/>
        </p:blipFill>
        <p:spPr>
          <a:xfrm>
            <a:off x="0" y="189000"/>
            <a:ext cx="3106800" cy="454644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aglona_1944"/>
          <p:cNvPicPr/>
          <p:nvPr/>
        </p:nvPicPr>
        <p:blipFill>
          <a:blip r:embed="rId3"/>
          <a:stretch/>
        </p:blipFill>
        <p:spPr>
          <a:xfrm>
            <a:off x="6093000" y="2274840"/>
            <a:ext cx="3051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4950000" y="1341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Zu Aglon geh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ö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ren die sakralen Geb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ude der Basili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c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a, der Heilbrunnen, das Kloster, der sakrale Platz und der Friedhof. Die tehnische Besichtigung des heiligen Komplexes wurde im Jahr 1997 durchge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hrt und ihre Ergebnisse sind aktuell auch heute,weil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die Rekonstruktion der Basilika das Projekt ausgearbeitet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wurde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.Seine  vollst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dige Realisation verlangt mehrere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h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undert 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ausend Lat.Um die kritischen Stellen nicht zu vernachl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ssigen und die Renovierung noch nicht teuerer zu machen, ist schon jetzt e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in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 Geldmittel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lage notwendi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8" name="Picture 24" descr="aglonas"/>
          <p:cNvPicPr/>
          <p:nvPr/>
        </p:nvPicPr>
        <p:blipFill>
          <a:blip r:embed="rId1"/>
          <a:stretch/>
        </p:blipFill>
        <p:spPr>
          <a:xfrm>
            <a:off x="0" y="404640"/>
            <a:ext cx="521820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Der Heilbrunnen von Agl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914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och heute, wenn man vo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Obstgarten zum Egles See geht,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ind am Ufer die Hausruinen zu sehen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ort war ein Krankenhaus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In der N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e des Hauses befand sich ein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Heil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runnen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Er wurde vom be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mten Aglon Klostervorgesetzten Vater Juskevics entdeckt.Nach der Ankunft in Aglon wurde er sehr krank.die hinzugenzogenen be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mtesten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rzte haben ihm eistimmig empfohlen, die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Heil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er zu nehmen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Ung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hr nach 15 B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er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wurde Vater Juskevics wieder gesund.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Sp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ter sind auf solcher Weise auch Bischof Kamonka,Priester Kaveckis und Dzentolets und viele andere gesund geword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1" name="Picture 15" descr="Aglonas_avots[1]"/>
          <p:cNvPicPr/>
          <p:nvPr/>
        </p:nvPicPr>
        <p:blipFill>
          <a:blip r:embed="rId1"/>
          <a:stretch/>
        </p:blipFill>
        <p:spPr>
          <a:xfrm>
            <a:off x="1835280" y="4403880"/>
            <a:ext cx="36432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Der Klos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as Kloster entstand zusammen mit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der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 Basilika.In diesem Kloster k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  <a:ea typeface="Tahoma"/>
              </a:rPr>
              <a:t>o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nten nur die wohnen, die das Glaubensbekenntnis annahmen und sich 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verpflichteten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das ganze Leben dem Glauben zu widmen.Im Kloster k</a:t>
            </a:r>
            <a:r>
              <a:rPr b="0" lang="lv-LV" sz="1800" spc="-1" strike="noStrike">
                <a:solidFill>
                  <a:srgbClr val="ffff99"/>
                </a:solidFill>
                <a:latin typeface="Tahoma"/>
                <a:ea typeface="Tahoma"/>
              </a:rPr>
              <a:t>o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nten sowohl M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0" lang="en-US" sz="1800" spc="-1" strike="noStrike">
                <a:solidFill>
                  <a:srgbClr val="ffff99"/>
                </a:solidFill>
                <a:latin typeface="Tahoma"/>
              </a:rPr>
              <a:t>nner als auch Frauen wohne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4" name="Picture 4" descr="18125390"/>
          <p:cNvPicPr/>
          <p:nvPr/>
        </p:nvPicPr>
        <p:blipFill>
          <a:blip r:embed="rId1"/>
          <a:stretch/>
        </p:blipFill>
        <p:spPr>
          <a:xfrm>
            <a:off x="250920" y="1341360"/>
            <a:ext cx="4251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Der sakrale Plat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680" y="4149720"/>
            <a:ext cx="8540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Tahoma"/>
              </a:rPr>
              <a:t>   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Urspr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glich hatte Aglohn Kirche keinen solchen sakralen Platz, den wir heute sehen.Um die Kirche wurde ein Steinzaun gebaut, der die W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ä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de der Kirche in festen Klammern umschl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i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sst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Heutzutage ist der sakrale Platz f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  <a:ea typeface="Tahoma"/>
              </a:rPr>
              <a:t>ü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r Feste bequem zu benutzen. Er ist gut beleuchtet,auch geschickt abgestimmt und fur verschiedene Gottesdienste vorgeseh</a:t>
            </a:r>
            <a:r>
              <a:rPr b="1" lang="lv-LV" sz="1600" spc="-1" strike="noStrike">
                <a:solidFill>
                  <a:srgbClr val="ffff99"/>
                </a:solidFill>
                <a:latin typeface="Tahoma"/>
              </a:rPr>
              <a:t>e</a:t>
            </a: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n, sehr weit, aber auch praktisch zusammengelegt in einem Ganze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7" name="Picture 9" descr="field_wide"/>
          <p:cNvPicPr/>
          <p:nvPr/>
        </p:nvPicPr>
        <p:blipFill>
          <a:blip r:embed="rId1"/>
          <a:stretch/>
        </p:blipFill>
        <p:spPr>
          <a:xfrm>
            <a:off x="684360" y="1197000"/>
            <a:ext cx="6983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8:10:39Z</dcterms:created>
  <dc:creator>User</dc:creator>
  <dc:description/>
  <dc:language>en-US</dc:language>
  <cp:lastModifiedBy>lietotajs</cp:lastModifiedBy>
  <dcterms:modified xsi:type="dcterms:W3CDTF">2010-04-09T09:30:57Z</dcterms:modified>
  <cp:revision>25</cp:revision>
  <dc:subject/>
  <dc:title>Aglonensis Basilica</dc:title>
</cp:coreProperties>
</file>