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F7A5-9E2F-43C7-ABC3-022FE2148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95A1-3C82-4498-8035-806E2B263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2031-B2DF-4BF1-A340-5532AD961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B180-B0C6-40FF-BBE7-A1EE27204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9EB3A-90C3-4292-8E62-A87490544C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7D5B9-409A-4780-BBBC-A9DAEDC4F2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A192-8277-4226-8E61-A53FE81B3F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F1F9A-103B-4E1A-9DBA-DE0B9E33AD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38888-254F-48D3-8FFA-290908217E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81E32-CEA5-4CC6-A3B9-33A4CA3FDC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A314C-6D00-4A15-97BE-59CDAE3DB1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015D-824C-4D86-82DF-341AD5097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E9003-F01F-47C7-97C8-A957358C21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BC237-8ADD-43A2-9D7F-FAF75BEA60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DAFF8-DD72-4B2D-AD59-C25FEFB6B7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CB4BE-49CD-46E3-9CAD-B2AF78E129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72393-88DA-4B24-A892-4A77F18194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257-F0FD-4A9A-A3BE-9C29B38CED9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195-6865-48BD-8595-E954F7BFCB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4AC-ACE4-4AFE-84BD-5ECB8403D9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DFF9-EA27-4FD7-AA06-9FD16FBEA3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DB23-5AAC-42AA-8B11-C41226DBE8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82D3C-3E50-410B-BDF9-5FA761D573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7D3D-3FB5-4668-86E8-41749138AE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E26-7EB4-48B8-A63E-1C4CD67A46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19E-3F00-4D7E-A736-A94B03149E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775-7FF5-4152-92F6-96BE9DDD49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875D-AD73-4303-867B-3E2A35483C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5A4-C6A5-4E64-AF90-DB7C304045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E254-01C2-45AC-BBAE-0DE83163F1B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260AD-F5A9-437F-90B1-DF819FE41E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80788-AAE3-4E24-B6DB-29BF65CD13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91243-880C-4C4E-8374-8B479FC0A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606AA-78FA-45D9-9881-6A26127C349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77BFA-207E-4541-BFEF-DCB7BDC120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5F3B1-A70C-462C-8217-9F4FEB2069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A0390-6607-4F72-AABC-5DFE5ACEFF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0AE41-C6AA-471C-9046-BD6863ADCE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97CBF-F483-45A9-B4C5-E009686CA93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B70A7-2567-4004-A82B-3A1D8B3C85B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2F26C-F424-46AB-8EA9-FA7584CD04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045E5-A829-4D98-9E15-35DF978B97C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EC41F-1A2B-4D76-BD6D-FC686B026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236C-12CC-4AE1-BD97-7F36A336C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520"/>
            <a:ext cx="8226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B9ED-7F7F-45A4-8B18-BBC83B298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8345-35F7-4DD4-B869-A2A2E68E6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7159-4E9D-4255-A9DF-19C95ABB6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5086-3246-42E1-A314-CDEBCE4A4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328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E4AC24-4504-4441-9CB4-7263DACC2109}" type="slidenum">
              <a:rPr b="0" lang="lv-LV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600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4000"/>
          </a:bodyPr>
          <a:p>
            <a:pPr marL="322200" indent="-322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051600"/>
            <a:ext cx="21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7320" y="6051600"/>
            <a:ext cx="2897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5960" y="605124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C13C0-7B50-4133-B351-3B07196D7BFB}" type="slidenum">
              <a:rPr b="0" lang="lv-LV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4E5D6-6B5A-4FD3-9544-195A630B401C}" type="slidenum">
              <a:rPr b="0" lang="lv-LV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5960" y="6246720"/>
            <a:ext cx="2127240" cy="4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lv-LV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EE9BD4-BEE5-47B0-9A93-25144DC04E4C}" type="slidenum">
              <a:rPr b="0" lang="lv-LV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476360" y="429264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lv-LV" sz="4000" spc="-1" strike="noStrike">
                <a:solidFill>
                  <a:srgbClr val="ffffff"/>
                </a:solidFill>
                <a:latin typeface="Calibri"/>
              </a:rPr>
              <a:t>Turaidas Museum Reserv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Gabals prezentācijai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457200" y="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de-DE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usstelung</a:t>
            </a:r>
            <a:r>
              <a:rPr b="1" i="1" lang="lv-LV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n</a:t>
            </a:r>
            <a:r>
              <a:rPr b="1" i="1" lang="de-DE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im Freie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457200" y="731880"/>
            <a:ext cx="822960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m Turaidas Schloß liegt 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ine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Route wo Menschen d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interessanteste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emente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des Schlossbaus kennen lerne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. Da kann man sehen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,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wo die alten Brücken, 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das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ördlich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Tor, 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ie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rste Kapelle und andere Objekten w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re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5537160" y="3200400"/>
            <a:ext cx="3378240" cy="2514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"/>
          <p:cNvPicPr/>
          <p:nvPr/>
        </p:nvPicPr>
        <p:blipFill>
          <a:blip r:embed="rId2"/>
          <a:stretch/>
        </p:blipFill>
        <p:spPr>
          <a:xfrm>
            <a:off x="0" y="4251240"/>
            <a:ext cx="3914640" cy="2606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"/>
          <p:cNvPicPr/>
          <p:nvPr/>
        </p:nvPicPr>
        <p:blipFill>
          <a:blip r:embed="rId3"/>
          <a:stretch/>
        </p:blipFill>
        <p:spPr>
          <a:xfrm>
            <a:off x="4114800" y="4800600"/>
            <a:ext cx="2779560" cy="2057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"/>
          <p:cNvPicPr/>
          <p:nvPr/>
        </p:nvPicPr>
        <p:blipFill>
          <a:blip r:embed="rId4"/>
          <a:stretch/>
        </p:blipFill>
        <p:spPr>
          <a:xfrm>
            <a:off x="2286000" y="3200400"/>
            <a:ext cx="2971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de-DE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egende über Turaidas Ro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457200" y="1143000"/>
            <a:ext cx="822960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s gibt eine Legende über Turaidas Maija (Rose).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er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Grab liegt bei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iner 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inde im Turaidas Museum Reserve.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Die 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egende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rz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t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über Liebe und Eifersucht. Junge Liebhaber Viktor und Maija treff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n sich oft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i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 der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Gutmanis Höhle nicht weit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von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Turaida. Eines Tag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s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komm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n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lnisch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Gener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e und beginn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n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zu 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rbeiten in Turaida. Ein General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veliebt sich in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Rose, aber sie hat n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in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gesagt.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er 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General w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urde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fers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ht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g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uf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Viktor und hat Rose getöte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. Menschen denk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n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, da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s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es Viktor war. Aber die Menschen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haben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schnell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ie 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Wa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rheit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ntdeckt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und Viktor w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urde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rei gelassen. Danach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st 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Viktor nach Deutschland gefahren und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at 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ine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andvoll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mit Sand vo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 Grab der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R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se</a:t>
            </a:r>
            <a:r>
              <a:rPr b="0" lang="lv-LV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mitgebracht</a:t>
            </a:r>
            <a:r>
              <a:rPr b="0" lang="de-DE" sz="21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4397400" y="4343400"/>
            <a:ext cx="4518000" cy="2444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2"/>
          <a:stretch/>
        </p:blipFill>
        <p:spPr>
          <a:xfrm>
            <a:off x="1371600" y="4572000"/>
            <a:ext cx="2514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457200" y="2065320"/>
            <a:ext cx="822960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176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lv-LV" sz="6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anke für die Aufmerksamkeit!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457200" y="-906480"/>
            <a:ext cx="8229600" cy="35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200"/>
            </a:br>
            <a:br>
              <a:rPr sz="3200"/>
            </a:br>
            <a:r>
              <a:rPr b="1" i="1" lang="de-DE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uraidas Museum Reserve liegt 50 km nordöstlich </a:t>
            </a:r>
            <a:r>
              <a:rPr b="1" i="1" lang="lv-LV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er </a:t>
            </a:r>
            <a:r>
              <a:rPr b="1" i="1" lang="de-DE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aupstadt Lettlands - Riga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8199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457200" y="-84600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br>
              <a:rPr sz="3600"/>
            </a:br>
            <a:r>
              <a:rPr b="1" i="1" lang="de-DE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uraida h</a:t>
            </a:r>
            <a:r>
              <a:rPr b="1" i="1" lang="lv-LV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t</a:t>
            </a:r>
            <a:r>
              <a:rPr b="1" i="1" lang="de-DE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interessante Geschichte und </a:t>
            </a:r>
            <a:r>
              <a:rPr b="1" i="1" lang="lv-LV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ine </a:t>
            </a:r>
            <a:r>
              <a:rPr b="1" i="1" lang="de-DE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ehr schön</a:t>
            </a:r>
            <a:r>
              <a:rPr b="1" i="1" lang="lv-LV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</a:t>
            </a:r>
            <a:r>
              <a:rPr b="1" i="1" lang="de-DE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Umgebung. „Turaida“ </a:t>
            </a:r>
            <a:r>
              <a:rPr b="1" i="1" lang="lv-LV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bedeutet Livisch </a:t>
            </a:r>
            <a:r>
              <a:rPr b="1" i="1" lang="de-DE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„</a:t>
            </a:r>
            <a:r>
              <a:rPr b="1" i="1" lang="lv-LV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Gottes</a:t>
            </a:r>
            <a:r>
              <a:rPr b="1" i="1" lang="de-DE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Garten“</a:t>
            </a:r>
            <a:r>
              <a:rPr b="1" i="1" lang="lv-LV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. Liven waren ein alter Stamm in Lettland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114800" cy="3657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4114800" y="4114800"/>
            <a:ext cx="3809880" cy="2654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5943600" y="251460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457200" y="-1119240"/>
            <a:ext cx="82296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br>
              <a:rPr sz="3600"/>
            </a:br>
            <a:r>
              <a:rPr b="1" i="1" lang="de-DE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useum Reserve ist 42 Hektare gr</a:t>
            </a:r>
            <a:r>
              <a:rPr b="1" i="1" lang="lv-LV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</a:t>
            </a:r>
            <a:r>
              <a:rPr b="1" i="1" lang="de-DE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ß. Da lieg</a:t>
            </a:r>
            <a:r>
              <a:rPr b="1" i="1" lang="lv-LV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n</a:t>
            </a:r>
            <a:r>
              <a:rPr b="1" i="1" lang="de-DE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viele archäologische architekt</a:t>
            </a:r>
            <a:r>
              <a:rPr b="1" i="1" lang="pl-PL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n</a:t>
            </a:r>
            <a:r>
              <a:rPr b="1" i="1" lang="de-DE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sche, historische, künstlerische Denkmäler. Einige </a:t>
            </a:r>
            <a:r>
              <a:rPr b="1" i="1" lang="lv-LV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nd</a:t>
            </a:r>
            <a:r>
              <a:rPr b="1" i="1" lang="de-DE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von dem 11. Jahrhundert</a:t>
            </a:r>
            <a:r>
              <a:rPr b="1" i="1" lang="lv-LV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28600" y="2844720"/>
            <a:ext cx="4305240" cy="2870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6176880" y="2743200"/>
            <a:ext cx="2967120" cy="2201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3"/>
          <a:stretch/>
        </p:blipFill>
        <p:spPr>
          <a:xfrm>
            <a:off x="3429000" y="4114800"/>
            <a:ext cx="3774960" cy="25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-84600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br>
              <a:rPr sz="3600"/>
            </a:br>
            <a:r>
              <a:rPr b="1" i="1" lang="de-DE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as Volkslied Park, Turaidas Schloß, Turaidas Kirche, die Gut</a:t>
            </a:r>
            <a:r>
              <a:rPr b="1" i="1" lang="lv-LV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g</a:t>
            </a:r>
            <a:r>
              <a:rPr b="1" i="1" lang="de-DE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bäude und andere </a:t>
            </a:r>
            <a:r>
              <a:rPr b="1" i="1" lang="lv-LV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bjekte</a:t>
            </a:r>
            <a:r>
              <a:rPr b="1" i="1" lang="de-DE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im Freien sind </a:t>
            </a:r>
            <a:r>
              <a:rPr b="1" i="1" lang="lv-LV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die </a:t>
            </a:r>
            <a:r>
              <a:rPr b="1" i="1" lang="de-DE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wichtigsten </a:t>
            </a:r>
            <a:r>
              <a:rPr b="1" i="1" lang="lv-LV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ehensw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</a:t>
            </a:r>
            <a:r>
              <a:rPr b="1" i="1" lang="lv-LV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digkeit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4514760" cy="3340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4572000" y="4114800"/>
            <a:ext cx="3975120" cy="2577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5715000" y="2514600"/>
            <a:ext cx="302904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5720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de-DE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ainu Ber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52280" y="3886200"/>
            <a:ext cx="4876920" cy="2943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228600" y="45720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66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Dainu Berg ist ein Garten mit Skulpturen und eine Widmung </a:t>
            </a:r>
            <a:r>
              <a:rPr b="0" lang="lv-LV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der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0" lang="lv-LV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l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ettische</a:t>
            </a:r>
            <a:r>
              <a:rPr b="0" lang="lv-LV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n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 Folklor</a:t>
            </a:r>
            <a:r>
              <a:rPr b="0" lang="lv-LV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e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. Es ist ein Symbol von Turaidas Museums Reserve und liegt im  Volkslied Park. Dainu Berg w</a:t>
            </a:r>
            <a:r>
              <a:rPr b="0" lang="lv-LV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urde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 im Jahre 1985. </a:t>
            </a:r>
            <a:r>
              <a:rPr b="0" lang="lv-LV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errichtet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. I</a:t>
            </a:r>
            <a:r>
              <a:rPr b="0" lang="pl-PL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n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 diese</a:t>
            </a:r>
            <a:r>
              <a:rPr b="0" lang="pl-PL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m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 Park </a:t>
            </a:r>
            <a:r>
              <a:rPr b="0" lang="lv-LV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hat der 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Bildhauer Indulis Ranka  26 Stein</a:t>
            </a:r>
            <a:r>
              <a:rPr b="0" lang="lv-LV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s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kulpturen </a:t>
            </a:r>
            <a:r>
              <a:rPr b="0" lang="lv-LV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aufgestellt</a:t>
            </a:r>
            <a:r>
              <a:rPr b="0" lang="de-DE" sz="3000" spc="-1" strike="noStrike">
                <a:solidFill>
                  <a:srgbClr val="ffffff"/>
                </a:solidFill>
                <a:latin typeface="Arial"/>
                <a:ea typeface="Arial Unicode MS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4343400" y="3914640"/>
            <a:ext cx="457200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457200" y="152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de-DE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as Schloß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457200" y="91440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ie Steinburg für der Bischof Albert begann man im Jahre 1214. zu bauen. 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Vorher war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da das Schloß 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er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Liven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vom 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König Kaupo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,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aber es 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wurde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i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 einer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Schl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cht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nieder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ge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br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nt. Im Jahre 1776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brach hier Feuer aus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, danach w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urde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das Schloß nicht restauriert und 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blieb in Ruinen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. Die Burg hat mehrere Teile – de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Hauptturm oder Bergfrid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,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westlich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n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eil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, de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gr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o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ße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halbrunde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Turm und 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den 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üdlich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n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urm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rtigen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lv-LV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eil</a:t>
            </a:r>
            <a:r>
              <a:rPr b="0" lang="de-DE" sz="2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715000" y="3429000"/>
            <a:ext cx="3394080" cy="2262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2743200" y="365760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3"/>
          <a:stretch/>
        </p:blipFill>
        <p:spPr>
          <a:xfrm>
            <a:off x="141120" y="4156200"/>
            <a:ext cx="3287880" cy="2473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4"/>
          <a:stretch/>
        </p:blipFill>
        <p:spPr>
          <a:xfrm>
            <a:off x="5029200" y="4800600"/>
            <a:ext cx="27338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de-DE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ie Kirch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457200" y="1022400"/>
            <a:ext cx="8229600" cy="28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2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uraidas Kirche w</a:t>
            </a:r>
            <a:r>
              <a:rPr b="0" lang="lv-LV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urde</a:t>
            </a:r>
            <a:r>
              <a:rPr b="0" lang="de-DE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im Jahre 1750. gebaut und ist eine de</a:t>
            </a:r>
            <a:r>
              <a:rPr b="0" lang="lv-LV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r</a:t>
            </a:r>
            <a:r>
              <a:rPr b="0" lang="de-DE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de-DE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lte</a:t>
            </a:r>
            <a:r>
              <a:rPr b="0" lang="lv-LV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ten</a:t>
            </a:r>
            <a:r>
              <a:rPr b="0" lang="de-DE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Kirchen i</a:t>
            </a:r>
            <a:r>
              <a:rPr b="0" lang="lv-LV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</a:t>
            </a:r>
            <a:r>
              <a:rPr b="0" lang="de-DE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Lettland. </a:t>
            </a:r>
            <a:r>
              <a:rPr b="0" lang="lv-LV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e</a:t>
            </a:r>
            <a:r>
              <a:rPr b="0" lang="de-DE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ist aus </a:t>
            </a:r>
            <a:r>
              <a:rPr b="0" lang="lv-LV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olz</a:t>
            </a:r>
            <a:r>
              <a:rPr b="0" lang="de-DE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gebaut </a:t>
            </a:r>
            <a:r>
              <a:rPr b="0" lang="lv-LV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ls</a:t>
            </a:r>
            <a:r>
              <a:rPr b="0" lang="de-DE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17 m lange</a:t>
            </a:r>
            <a:r>
              <a:rPr b="0" lang="lv-LV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</a:t>
            </a:r>
            <a:r>
              <a:rPr b="0" lang="de-DE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und 10 m breite</a:t>
            </a:r>
            <a:r>
              <a:rPr b="0" lang="lv-LV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</a:t>
            </a:r>
            <a:r>
              <a:rPr b="0" lang="de-DE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Ein</a:t>
            </a:r>
            <a:r>
              <a:rPr b="0" lang="lv-LV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raumg</a:t>
            </a:r>
            <a:r>
              <a:rPr b="0" lang="de-DE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bäude. Turaidas Kirche ist nicht umgebaut und einige Möbel sind vo</a:t>
            </a:r>
            <a:r>
              <a:rPr b="0" lang="lv-LV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m</a:t>
            </a:r>
            <a:r>
              <a:rPr b="0" lang="de-DE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Jahr 1750., z.B. </a:t>
            </a:r>
            <a:r>
              <a:rPr b="0" lang="pl-PL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</a:t>
            </a:r>
            <a:r>
              <a:rPr b="0" lang="de-DE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s Altar mit </a:t>
            </a:r>
            <a:r>
              <a:rPr b="0" lang="lv-LV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Zaun</a:t>
            </a:r>
            <a:r>
              <a:rPr b="0" lang="de-DE" sz="2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und Kanze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2"/>
          <a:stretch/>
        </p:blipFill>
        <p:spPr>
          <a:xfrm>
            <a:off x="5943600" y="3679920"/>
            <a:ext cx="2514600" cy="29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457200" y="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de-DE" sz="4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uraidas Schloßgu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457200" y="96048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uraidas Schloßgut w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urde gleichzeitig mit dem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chloß 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rrichtet.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ach dem Brand wurden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Gutgebäude draußen 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- in der 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 d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Weg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, 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Weide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oder der Acker geb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u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. 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uf dem Ge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ä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de des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Schloß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s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bleibt das Gebäude der Gutbesit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z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r und einige andere Gebäude. Jetzt 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nd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da 21 Gebäude</a:t>
            </a:r>
            <a:r>
              <a:rPr b="0" lang="lv-LV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,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einige sind mehr als 200 Jahre al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4800600" cy="2743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2"/>
          <a:stretch/>
        </p:blipFill>
        <p:spPr>
          <a:xfrm>
            <a:off x="457200" y="3886200"/>
            <a:ext cx="3657600" cy="251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1:36:56Z</dcterms:created>
  <dc:creator>Reinis</dc:creator>
  <dc:description/>
  <dc:language>en-US</dc:language>
  <cp:lastModifiedBy>oem</cp:lastModifiedBy>
  <dcterms:modified xsi:type="dcterms:W3CDTF">2010-11-12T11:15:52Z</dcterms:modified>
  <cp:revision>18</cp:revision>
  <dc:subject/>
  <dc:title>Slide 1</dc:title>
</cp:coreProperties>
</file>