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9AC-84FA-4214-93BA-72C7F606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B66-744C-4B1A-9999-6FC41B3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321-20AA-4C9D-9443-6B3A0D41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A0-4B4A-4052-BD07-43A137A4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3EE-CB7C-4AB0-B592-410030A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11-7323-4317-9E53-E9577A6D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CD7-7E54-46F4-8189-3F0ECF6C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386-1A87-49D6-8274-340F4345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CDD-53D8-4403-BB97-5DE5264C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25C-BC46-4107-B982-70157F01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B80-D6E3-439A-A43B-22179F06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64C-472F-4492-AF52-B96D7D8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678-DE55-4C28-870A-1F2AA23CA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guntergerhardt.de/ParniddenDuene,Litauen2009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Die Kurische Ne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ilty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miltyne ist ein Territorium des Nationalparks der Kurischen Nehrung, das vom Staat geschützt und von der Selbstverwaltung der Stadt Klaipeda verwaltet wird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ie am meisten von Touristen besuchten Orte in Smiltyne sind das Meeresmuseum, das einzige Delphinarium in Litauen und das Naturmuseum des Nationalparks der Kurischen Nehr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56200" y="1700280"/>
            <a:ext cx="3260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Hexenberg (Früher Berg von Jonas, Ieva)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Zu den Sehenswürdigkeiten auf der Kurischen Nehrung gehört der Hexenberg in Juodk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ier wurden viele Holzskulpturen aufgestellt, die Figuren aus der Sagenwelt darste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887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Der National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er Nationalpark auf der Kurischen Nehrung (26461 ha groß, 9761 ha davon ist das Festland, 4200 ha - das Kurische Haff, 12500 ha – die Ostsee) ist das am meisten besuchte Schutzgebiet in Litau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viktorija\Desktop\Ilonai\KN2[1].jpg"/>
          <p:cNvPicPr/>
          <p:nvPr/>
        </p:nvPicPr>
        <p:blipFill>
          <a:blip r:embed="rId1"/>
          <a:stretch/>
        </p:blipFill>
        <p:spPr>
          <a:xfrm>
            <a:off x="4716360" y="1916280"/>
            <a:ext cx="41036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Urlaub an der Kurischen Nehrung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Kurische Nehrung ist ein wunderbarer Ort sowohl für die Urlauber, die die Ruhe schätzen als auch für die Gäste, die Aktivitäten brauch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Radwege verbinden alle Ortschaften mit einander und Nida ist ein Paradies für  Segler, Wellenreiter, Freunde der Drachen- und Segelflieger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10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Vielen Dank 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r die Aufmerksamk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Grenzen der Litauischen Nehr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sche Nehrung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st ein 98 km langer Landstreifen zwischen Klaipėda und Lesnoi, von dem heute 52 km zu Litauen und 46 km zu Russland gehöre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 hiesige zarte Natur verlangt ständige und große Aufmerksamkeit.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44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rtschaften entlang der Kurischen Nehrung in Litauen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miltynė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andkrug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51/0 (Stadtteil von Memel (Klaipeda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ksnynė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rlenhai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43,0/8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uodkrantė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Schwarzor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31,3/19,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valka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Perwelk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18,0/33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la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Preil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12,7/38,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ida (deutsch: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Nidd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), Kilometer 3,7/47,3 (Hauptort des litauischen Tei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395604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Arial"/>
              </a:rPr>
              <a:t>Kurische Nehrung – auf dem Verzeichnis von UNES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2840"/>
            <a:ext cx="4038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 Ende 2000 wurde das Territorium Kurischer Nehrung, wie ein Objekt kultureller Landschaft, in ein Verzeichnis der Welterbe von UNESCO einget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se Würdigung – das ist eine beste Anerkennung für die auf dem Territorium Kurischer Nehrung vollgezogenen Arbeiten der Verbesserung kultureller Erbe, des Naturschutzes und der Infrastukt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3164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nddü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urische Nehrung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st ein wertvolles Naturgebiet.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anddün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erstrecken sich über mehrere Kilometer und werden über 60 Meter ho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3196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Baltische Per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"Baltische Perle", "Schmuck des Meeresstrandes", "Heimat der Sagen Neringas" - so loben die vom Reiz der Kurischen Nehrung begeisterten Menschen die Geg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54440" y="1557360"/>
            <a:ext cx="40212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SCHAF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da ist die größte Ortschaft und das Administrationszentrum von Nerin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Nida wohnen zur  Zeit etwa 1550 ständige Einwohner. Jeden Sommer kommen hierher etwa 50 Tausend Urlau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m ersten Mal wurde Nida in den Dokumenten des Kreuzritterordens im Jahre 1385 als ,,Noyken“, ,,Noyden“ erwähnt.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Parnidden-Düne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l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attraktion von Nida ist die Parnidden Düne , zu der ein steiler Weg mit 159 Holzstufen hinauffüh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einer Höhe von 52 m gehört sie zu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chsten Dünen Europas</a:t>
            </a:r>
            <a:r>
              <a:rPr b="0" lang="lt-LT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ParniddenDuene,Litauen20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ODK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4027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uodkrante ist die zweitgrößte Ortschaft von Neringa. Sie liegt am Kurischen Haffs zwischen den hohen parabolischen Dün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n schriftlichen Quellen wurde Juodkrante zum ersten Mal im Jahre 1429 erwäh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n Jahren 1854- 1855 wurde beiJuodkrante 2250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nnen Bernsteingefund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 u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gegrabe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dem Zweiten Weltkrieg war Juodkrante als Kurort mit europäischem Niveau berühmt. Auch heutzutage bietet Juodkrante viel Erholung und Ruhe.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Juodkrante"/>
          <p:cNvPicPr/>
          <p:nvPr/>
        </p:nvPicPr>
        <p:blipFill>
          <a:blip r:embed="rId1"/>
          <a:stretch/>
        </p:blipFill>
        <p:spPr>
          <a:xfrm>
            <a:off x="4427640" y="1557360"/>
            <a:ext cx="4259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52:26Z</dcterms:created>
  <dc:creator>*</dc:creator>
  <dc:description/>
  <dc:language>en-US</dc:language>
  <cp:lastModifiedBy>*</cp:lastModifiedBy>
  <dcterms:modified xsi:type="dcterms:W3CDTF">2010-01-17T18:05:13Z</dcterms:modified>
  <cp:revision>15</cp:revision>
  <dc:subject/>
  <dc:title>Die Kurische Nehrung</dc:title>
</cp:coreProperties>
</file>