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670-24F2-4396-8FB2-B82170D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ACA-85E2-446E-91E8-99B02DE5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067-E82C-4C0F-9068-8F8A1F84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0D7-FCE1-4FEC-A044-8C70927F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557-AFD3-4F72-964F-9FE569E7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2AD-A11C-4998-938F-A2752F5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890-1F5B-4ED1-86A7-1B567F8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5BC-62F0-422C-A39D-3C9FBA5E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989-2F80-4A50-92F0-D8389FD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6E4-CAA3-4E5F-AC5A-AEAEBB1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D92-2446-42C9-8915-B275DBD2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1D2-9446-44FC-876E-C4E7FF2B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8B4D-C2CF-417A-865C-FB4ED5BC5B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770-720D-44D4-BAA2-696AB6D0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ernievancastle.de/images/burgen/litauen/trakai_ticket_01.jpg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8.xml"/><Relationship Id="rId6" Type="http://schemas.openxmlformats.org/officeDocument/2006/relationships/image" Target="../media/image5.png"/><Relationship Id="rId7" Type="http://schemas.openxmlformats.org/officeDocument/2006/relationships/slide" Target="slide9.xml"/><Relationship Id="rId8" Type="http://schemas.openxmlformats.org/officeDocument/2006/relationships/image" Target="../media/image6.jpeg"/><Relationship Id="rId9" Type="http://schemas.openxmlformats.org/officeDocument/2006/relationships/slide" Target="slide6.xml"/><Relationship Id="rId10" Type="http://schemas.openxmlformats.org/officeDocument/2006/relationships/image" Target="../media/image7.jpeg"/><Relationship Id="rId11" Type="http://schemas.openxmlformats.org/officeDocument/2006/relationships/slide" Target="slide11.xml"/><Relationship Id="rId12" Type="http://schemas.openxmlformats.org/officeDocument/2006/relationships/image" Target="../media/image8.png"/><Relationship Id="rId13" Type="http://schemas.openxmlformats.org/officeDocument/2006/relationships/slide" Target="slide10.xm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" Target="slide13.xml"/><Relationship Id="rId17" Type="http://schemas.openxmlformats.org/officeDocument/2006/relationships/image" Target="../media/image11.jpeg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DAS LITAU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8ADA-17DE-4AB0-8044-53454DDBF4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t.ANNENKIR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19640" y="1628640"/>
            <a:ext cx="343692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e Kirche Hl.Anna ist ein durchbrochenes Meisterwerk der „flammenden“ bzw. Spätgotik und einer der  schönsten Bauten unter Weltkirch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e Juwelen der Barockarchitektur sind die Kirchen Hl. Peter-und-Paul und Hl. Joha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6473-0CBB-4824-A6DA-3E37B46B91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R FERNSEHTU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ine moderne Sehenswürdigkeit ist der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ernsehturm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, der 326 m hoch ist und in 190 m Höhe über eine Aussichtsplattform verfüg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1600200"/>
            <a:ext cx="34336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F0208-9BAC-424F-8A69-29CBFC93D1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UTAS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r Park wurde von dem litauischen Unternehmer Viliumas Malinauskas am 1.April 2001 eröffne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r Park  verzeichnet seither steigende Besucherzahlen und hat sich zu einem Touristenmagneten entwick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85632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8966D-5292-429A-9DB1-7CEAC4D52F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EHENS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Ü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DIGKEITEN I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 LITAU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BERG DER KR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KURISCHE NE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BURG TRAK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RUMŠIŠ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KER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KA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Vilnius"/>
          <p:cNvPicPr/>
          <p:nvPr/>
        </p:nvPicPr>
        <p:blipFill>
          <a:blip r:embed="rId7"/>
          <a:stretch/>
        </p:blipFill>
        <p:spPr>
          <a:xfrm>
            <a:off x="5364000" y="1442880"/>
            <a:ext cx="2521080" cy="153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Vaizdas nuo Didžiosios kopos Nidoje"/>
          <p:cNvPicPr/>
          <p:nvPr/>
        </p:nvPicPr>
        <p:blipFill>
          <a:blip r:embed="rId8"/>
          <a:stretch/>
        </p:blipFill>
        <p:spPr>
          <a:xfrm>
            <a:off x="6012000" y="2924280"/>
            <a:ext cx="2879640" cy="1620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Druskininkai iš paukščio skrydžio"/>
          <p:cNvPicPr/>
          <p:nvPr/>
        </p:nvPicPr>
        <p:blipFill>
          <a:blip r:embed="rId9"/>
          <a:stretch/>
        </p:blipFill>
        <p:spPr>
          <a:xfrm>
            <a:off x="5076720" y="4437000"/>
            <a:ext cx="2664000" cy="165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203640" y="4005360"/>
            <a:ext cx="187632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4CA7B-5A35-4459-B357-D6A478FAB8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RG DER KREU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reuzmacherei ist eine einzigartige Volkskunstart, die auf die UNESCO Erbeliste der menschlichen und mündlichen Meisterwerke im Jahre 2001  eingetragen wu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litauischen traditionellen Kreuze sind die eigenartigen  Bauten, die Elemente der Architektur, Bildhauerei, des Schmiedehandwerks und sogar elementarer Malerei vereini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76720" y="1628640"/>
            <a:ext cx="338292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A5C3E-2719-4FD3-8FE5-F2DED5E7D6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URISCHE NEHR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ische Nehrung ist ein einzigartiges Meisterwerk der Menschen und der Natur, das auf die UNESCO Welterbeliste 2000 eingetragen 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rische Nehrung ist eine der schönsten und eigenartigsten Naturlandschaften in der We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933800" y="1600200"/>
            <a:ext cx="3753000" cy="4205160"/>
            <a:chOff x="4933800" y="1600200"/>
            <a:chExt cx="3753000" cy="42051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933800" y="1600200"/>
              <a:ext cx="3753000" cy="42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4933800" y="1600200"/>
              <a:ext cx="3753000" cy="420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5C280-288F-424D-8460-6F35B1F380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RG TRAK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e meistbesuchte Sehenswuerdigkeit in Litauen ist die malerisch </a:t>
            </a:r>
            <a:r>
              <a:rPr b="0" lang="lt-L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gelegene Wasserburg von Trakai, unweit von Vilni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rakai war die mittelalterliche Hauptstadt Litauens und im 14. und 15. Jahrhundert Residenz der litauischen Grossfuersten, noch bevor Vilnius zur Hauptstadt wu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e Grossfuersten Kestutis und sein Sohn Vytautas begannen Ende des 14. Jahrhunderts mit dem Bau zweier Burgen in Trakai - inmitten eines Seenlabyrinth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743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F3AB6-D179-40D7-9CDF-3347AC15BA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MŠIŠK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tauisches Volksmuseum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umšiškės (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re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išiadorys)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ein Freilichtmus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ine wichtigsten Exponate sind Wohnhäuser, Wirtschaftsgebäude und technische Volksdenkmäler aus allen litauischen ethnographischen Regionen: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štaitija, Žemaitija, Suvalkija und Dzūk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7450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D6EA6-8BA5-4B31-94A2-527863FAEE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RN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r Ort wurde auf die UNESCO Kulturerbeliste 2004 eingeschrie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ernavė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st der einzige Ort mit  fünf Burgbergen im Baltik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s war die erste litauische Hauptstadt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5830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0731B-C092-45B5-A524-17039DF612F3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AU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unas (364,1 Tausend Einwohner) ist die zweitgrößte litauische Stadt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49720" y="1628640"/>
            <a:ext cx="3483000" cy="424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586F8-1405-4E85-8CDC-2BE5E8ED6B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DKARTE VON LITAU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5322960" cy="510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9240" y="1054440"/>
            <a:ext cx="3516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e altstadt Vil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urische Ne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ernav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Die Hauptstadt Vil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urg Gedi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urg Trak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Berg der Kreu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ernsehturm Vil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ėdain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au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vangelisch-Reformierte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Ki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tein Puntu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laipė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Universität Viln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Vytautas-Magnus-Universität 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Kau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16476-A939-43EF-9B8C-60C074402A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91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VIELEN DANK 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R DIE AUFMERKSAM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342B1-A392-4CD1-8ED5-09187D46B0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ALTSDADT VILN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4020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ilnius  ist eine der grössten (ca. 360 ha) und eine der schönsten Altstädte in Mittel- und Osteuro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t ihrem hellen Palais und Kirchtürmen erinnert sie an alte reiche Städte Italiens wie Rom oder Floren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ilnius gehört zu den zehn schönsten Weltstädten und ist unbedingt einen Besuch wert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19840" y="1557360"/>
            <a:ext cx="35128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C866F-C7A0-4675-B1E7-FA651A5AC0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EHENS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Ü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DIGKEITEN IN VILNI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146800" cy="4525920"/>
        </p:xfrm>
        <a:graphic>
          <a:graphicData uri="http://schemas.openxmlformats.org/drawingml/2006/table">
            <a:tbl>
              <a:tblPr/>
              <a:tblGrid>
                <a:gridCol w="1630440"/>
                <a:gridCol w="1627920"/>
                <a:gridCol w="1630080"/>
                <a:gridCol w="1628280"/>
                <a:gridCol w="163008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1628640"/>
            <a:ext cx="165564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35280" y="1628640"/>
            <a:ext cx="1728720" cy="2232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64000" y="1628640"/>
            <a:ext cx="165600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66560" y="3875040"/>
            <a:ext cx="161316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1628640"/>
            <a:ext cx="158436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708360" y="3860640"/>
            <a:ext cx="165564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065320" y="3860640"/>
            <a:ext cx="1658880" cy="23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5364000" y="3860640"/>
            <a:ext cx="1656000" cy="230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Vilnius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948360" y="3860640"/>
            <a:ext cx="1714680" cy="230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8"/>
          <a:stretch/>
        </p:blipFill>
        <p:spPr>
          <a:xfrm>
            <a:off x="7020000" y="1628640"/>
            <a:ext cx="1584360" cy="23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8C075-3C24-47A3-BD7D-67C6BA44C2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E HAUPTSTADT LITAU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402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lnius war vom 13. bis 18.Jh. ein politisches Zentrum des litauischen Großfürstentums, es beeinflußte die osteuropäische Entwicklung in der Architektur und Kult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Name der Stadt wurde zum ersten Mal 1323 in Briefen des litauischen Großfürsten Gediminas erwäh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ntragung  der Altstadt Vilnius1994 auf die Liste des UNESCO Kulturer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81480" y="1623960"/>
            <a:ext cx="343224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7270E-9998-4E02-9547-553C2EA334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E HAUPTSTADT LITAU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it 1323 ist Vilnius als eine tolerantvolle Stadt für verschiedene Nationalitäten und Religionen bekan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lnius bildete sich als Toleranzzentrum, in dem sich Vertreter verschiedener Nationalitäten – Polen, Belorussen, Russen, Deutsche, Juden u. a. - niedergelassen haben und freundlich zusammenlebten, Handwerke und Handel florierten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94360" y="1628640"/>
            <a:ext cx="35100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BE311-B24E-45D5-AEFD-02DBBAF78F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er Gediminas Tu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r Symbol des Litau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Heutzutage befinden sich in dem gotischen Turm das Museum der Geschichte Litauens und die bequemen Aussichtsplattform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3280" y="155736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010E0-684E-4B3F-8604-321E2AA8F3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E B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Ü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MTE UNIVERSI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Ä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e berühmte Universität wurde im Jahre 1579 gegründ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r Campus mit seinen wunderschönen historischen Gebäuden liegt inmitten der Altstad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e Universitäts-Bibliothek zählt seit 429 Jahren zu den herausragenden Zentren Litauischer Wissenschaft und Kult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88080" y="1484280"/>
            <a:ext cx="371628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B74FA-3031-4337-83B1-0E998D83EF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AS TOR DER MORGEN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Ö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47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Heute das Tor der Morgenröte ist die populärste Weise auf das Territorium der Altstadt Vilnius hineinzukomm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e Skulpturen der Greifs stellen die symbolischen Schutzpatron Vilnius und ganzen Litauens dar, in den kralligen Pfoten das Wappen des Großen Fürstentums Litauisch halt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s wird angenommen, dass sich die beste Überblicksart auf das Tor der Morgenröte von westlicher Seite öffnet, wo man die Fenster der Kapelle und die Ikone der Gottesmutter beobachten kann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46640" y="1628640"/>
            <a:ext cx="3521160" cy="446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B51B0-1093-4AE5-AB55-BAE73A7111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7:00:55Z</dcterms:created>
  <dc:creator>-</dc:creator>
  <dc:description/>
  <dc:language>en-US</dc:language>
  <cp:lastModifiedBy>*</cp:lastModifiedBy>
  <dcterms:modified xsi:type="dcterms:W3CDTF">2009-10-09T12:26:58Z</dcterms:modified>
  <cp:revision>18</cp:revision>
  <dc:subject/>
  <dc:title>Asddfghnhj </dc:title>
</cp:coreProperties>
</file>