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1.jpeg" ContentType="image/jpeg"/>
  <Override PartName="/ppt/media/image9.jpeg" ContentType="image/jpeg"/>
  <Override PartName="/ppt/media/image20.jpeg" ContentType="image/jpe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AF59B-0101-42F4-A9A3-78F69E2F9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D23A3-6D33-4071-9FC0-9E020D573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E6E04-E98F-4C35-9DEE-71C6EA82C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963E3-0866-4433-A99B-22E2F3BA5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B739EA-2CE8-4853-B4AB-EAF472BC17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1FADC-C062-4F0B-92C0-AE67A4871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0B6BA-FC7A-4190-A9F1-DEF2650FD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E8092-BAF1-42E3-9933-A0DD65C39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D6A8D-2741-437B-9171-2CB1495DA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6207F-63E7-4DB3-A000-23756FB13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B2DA7-3C1D-4CFB-B314-0BDE53C0C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3E39D-AF21-43ED-90AE-9BF7FCD69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56CA5-66A2-4C8E-8DF9-66F2BCD13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62A55-EC34-47BC-A2DC-44074E188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8A8F0-362E-44E3-86C8-AA0E73009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BEEC6-A30B-45F7-B56B-3FA2A8A27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1643B0-EF05-4811-9D0F-6585964C11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13947-6A90-4F4D-BD89-AC2F91882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09DC8-466D-4CB9-9301-1294277B3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E4EB6-355E-4A9A-88D7-440F652B2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69BD2-0053-48EC-97C0-55F9B929C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94D21-CBC3-4F37-B6CA-5E1F5F94F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BBD5F-1125-42F1-AD28-573672BB6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FC1D5-15C3-49ED-BCF6-052F1DDF4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51"/>
            </a:gs>
            <a:gs pos="100000">
              <a:srgbClr val="00808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008080"/>
                </a:gs>
                <a:gs pos="100000">
                  <a:srgbClr val="00595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6a67"/>
                  </a:gs>
                  <a:gs pos="100000">
                    <a:srgbClr val="00827f"/>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007977"/>
                  </a:gs>
                  <a:gs pos="100000">
                    <a:srgbClr val="00827f"/>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7977"/>
                  </a:gs>
                  <a:gs pos="100000">
                    <a:srgbClr val="00827f"/>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7573"/>
                  </a:gs>
                  <a:gs pos="100000">
                    <a:srgbClr val="00827f"/>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7573"/>
                  </a:gs>
                  <a:gs pos="100000">
                    <a:srgbClr val="00827f"/>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00716f"/>
                  </a:gs>
                  <a:gs pos="100000">
                    <a:srgbClr val="00827f"/>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00716f"/>
                  </a:gs>
                  <a:gs pos="100000">
                    <a:srgbClr val="00827f"/>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006d6b"/>
                  </a:gs>
                  <a:gs pos="100000">
                    <a:srgbClr val="00827f"/>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6d6b"/>
                  </a:gs>
                  <a:gs pos="100000">
                    <a:srgbClr val="00827f"/>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6a67"/>
                  </a:gs>
                  <a:gs pos="100000">
                    <a:srgbClr val="00827f"/>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6663"/>
                  </a:gs>
                  <a:gs pos="100000">
                    <a:srgbClr val="00827f"/>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006663"/>
                  </a:gs>
                  <a:gs pos="100000">
                    <a:srgbClr val="00827f"/>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6663"/>
                  </a:gs>
                  <a:gs pos="100000">
                    <a:srgbClr val="00827f"/>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006663"/>
                  </a:gs>
                  <a:gs pos="100000">
                    <a:srgbClr val="00827f"/>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6663"/>
                  </a:gs>
                  <a:gs pos="100000">
                    <a:srgbClr val="00827f"/>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6663"/>
                  </a:gs>
                  <a:gs pos="100000">
                    <a:srgbClr val="00827f"/>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6663"/>
                  </a:gs>
                  <a:gs pos="100000">
                    <a:srgbClr val="00827f"/>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007977"/>
                  </a:gs>
                  <a:gs pos="100000">
                    <a:srgbClr val="00827f"/>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7977"/>
                  </a:gs>
                  <a:gs pos="100000">
                    <a:srgbClr val="00827f"/>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716f"/>
                  </a:gs>
                  <a:gs pos="100000">
                    <a:srgbClr val="00827f"/>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7573"/>
                  </a:gs>
                  <a:gs pos="100000">
                    <a:srgbClr val="00827f"/>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6663"/>
                  </a:gs>
                  <a:gs pos="100000">
                    <a:srgbClr val="00827f"/>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6a67"/>
                  </a:gs>
                  <a:gs pos="100000">
                    <a:srgbClr val="00827f"/>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6a67"/>
                  </a:gs>
                  <a:gs pos="100000">
                    <a:srgbClr val="00827f"/>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6a67"/>
                  </a:gs>
                  <a:gs pos="100000">
                    <a:srgbClr val="00827f"/>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0064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0064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005a58"/>
                    </a:gs>
                    <a:gs pos="100000">
                      <a:srgbClr val="00827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005a58"/>
                    </a:gs>
                    <a:gs pos="100000">
                      <a:srgbClr val="00827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005a58"/>
                    </a:gs>
                    <a:gs pos="100000">
                      <a:srgbClr val="00827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005a58"/>
                    </a:gs>
                    <a:gs pos="100000">
                      <a:srgbClr val="00827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005a58"/>
                    </a:gs>
                    <a:gs pos="100000">
                      <a:srgbClr val="00827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005a58"/>
                    </a:gs>
                    <a:gs pos="100000">
                      <a:srgbClr val="00827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005a58"/>
                    </a:gs>
                    <a:gs pos="100000">
                      <a:srgbClr val="00827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005a58"/>
                    </a:gs>
                    <a:gs pos="100000">
                      <a:srgbClr val="00827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005a58"/>
                    </a:gs>
                    <a:gs pos="100000">
                      <a:srgbClr val="00827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005a58"/>
                  </a:gs>
                  <a:gs pos="100000">
                    <a:srgbClr val="00827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0064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0064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0064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005a58"/>
                  </a:gs>
                  <a:gs pos="100000">
                    <a:srgbClr val="00827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0064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0064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0064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4F10-9BC5-4802-AC9A-A9AC78B0A04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51"/>
            </a:gs>
            <a:gs pos="100000">
              <a:srgbClr val="008080"/>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008080"/>
                </a:gs>
                <a:gs pos="100000">
                  <a:srgbClr val="00595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6a67"/>
                  </a:gs>
                  <a:gs pos="100000">
                    <a:srgbClr val="00827f"/>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007977"/>
                  </a:gs>
                  <a:gs pos="100000">
                    <a:srgbClr val="00827f"/>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7977"/>
                  </a:gs>
                  <a:gs pos="100000">
                    <a:srgbClr val="00827f"/>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7573"/>
                  </a:gs>
                  <a:gs pos="100000">
                    <a:srgbClr val="00827f"/>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7573"/>
                  </a:gs>
                  <a:gs pos="100000">
                    <a:srgbClr val="00827f"/>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00716f"/>
                  </a:gs>
                  <a:gs pos="100000">
                    <a:srgbClr val="00827f"/>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00716f"/>
                  </a:gs>
                  <a:gs pos="100000">
                    <a:srgbClr val="00827f"/>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006d6b"/>
                  </a:gs>
                  <a:gs pos="100000">
                    <a:srgbClr val="00827f"/>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6d6b"/>
                  </a:gs>
                  <a:gs pos="100000">
                    <a:srgbClr val="00827f"/>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6a67"/>
                  </a:gs>
                  <a:gs pos="100000">
                    <a:srgbClr val="00827f"/>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6663"/>
                  </a:gs>
                  <a:gs pos="100000">
                    <a:srgbClr val="00827f"/>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006663"/>
                  </a:gs>
                  <a:gs pos="100000">
                    <a:srgbClr val="00827f"/>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6663"/>
                  </a:gs>
                  <a:gs pos="100000">
                    <a:srgbClr val="00827f"/>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006663"/>
                  </a:gs>
                  <a:gs pos="100000">
                    <a:srgbClr val="00827f"/>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6663"/>
                  </a:gs>
                  <a:gs pos="100000">
                    <a:srgbClr val="00827f"/>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6663"/>
                  </a:gs>
                  <a:gs pos="100000">
                    <a:srgbClr val="00827f"/>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6663"/>
                  </a:gs>
                  <a:gs pos="100000">
                    <a:srgbClr val="00827f"/>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007977"/>
                  </a:gs>
                  <a:gs pos="100000">
                    <a:srgbClr val="00827f"/>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7977"/>
                  </a:gs>
                  <a:gs pos="100000">
                    <a:srgbClr val="00827f"/>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716f"/>
                  </a:gs>
                  <a:gs pos="100000">
                    <a:srgbClr val="00827f"/>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7573"/>
                  </a:gs>
                  <a:gs pos="100000">
                    <a:srgbClr val="00827f"/>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6663"/>
                  </a:gs>
                  <a:gs pos="100000">
                    <a:srgbClr val="00827f"/>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6a67"/>
                  </a:gs>
                  <a:gs pos="100000">
                    <a:srgbClr val="00827f"/>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6a67"/>
                  </a:gs>
                  <a:gs pos="100000">
                    <a:srgbClr val="00827f"/>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6a67"/>
                  </a:gs>
                  <a:gs pos="100000">
                    <a:srgbClr val="00827f"/>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00827f"/>
                    </a:gs>
                    <a:gs pos="100000">
                      <a:srgbClr val="005a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0064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0064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005a58"/>
                    </a:gs>
                    <a:gs pos="100000">
                      <a:srgbClr val="00827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005a58"/>
                    </a:gs>
                    <a:gs pos="100000">
                      <a:srgbClr val="00827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005a58"/>
                    </a:gs>
                    <a:gs pos="100000">
                      <a:srgbClr val="00827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005a58"/>
                    </a:gs>
                    <a:gs pos="100000">
                      <a:srgbClr val="00827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005a58"/>
                    </a:gs>
                    <a:gs pos="100000">
                      <a:srgbClr val="00827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005a58"/>
                    </a:gs>
                    <a:gs pos="100000">
                      <a:srgbClr val="00827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005a58"/>
                    </a:gs>
                    <a:gs pos="100000">
                      <a:srgbClr val="00827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005a58"/>
                    </a:gs>
                    <a:gs pos="100000">
                      <a:srgbClr val="00827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005a58"/>
                    </a:gs>
                    <a:gs pos="100000">
                      <a:srgbClr val="00827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005a58"/>
                  </a:gs>
                  <a:gs pos="100000">
                    <a:srgbClr val="00827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0064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0064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0064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005a58"/>
                  </a:gs>
                  <a:gs pos="100000">
                    <a:srgbClr val="00827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0064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0064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0064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5E26-2920-4172-B3F7-6AE6DBE8E21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cc"/>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cc"/>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hyperlink" Target="http://upload.wikimedia.org/wikipedia/commons/a/a1/Paskarbe_cross.jpg" TargetMode="External"/><Relationship Id="rId4" Type="http://schemas.openxmlformats.org/officeDocument/2006/relationships/image" Target="../media/image6.jpeg"/><Relationship Id="rId5" Type="http://schemas.openxmlformats.org/officeDocument/2006/relationships/hyperlink" Target="http://lt.wikipedia.org/wiki/Vaizdas:Rizgonys.jpg" TargetMode="External"/><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51"/>
            </a:gs>
            <a:gs pos="100000">
              <a:srgbClr val="00808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cc"/>
                </a:solidFill>
                <a:latin typeface="Arial"/>
              </a:rPr>
              <a:t>KREUZMACHEREI UND </a:t>
            </a:r>
            <a:r>
              <a:rPr b="1" lang="de-DE" sz="4800" spc="-1" strike="noStrike">
                <a:solidFill>
                  <a:srgbClr val="ffffff"/>
                </a:solidFill>
                <a:latin typeface="Arial"/>
              </a:rPr>
              <a:t>SYMBOLIK</a:t>
            </a:r>
            <a:r>
              <a:rPr b="1" lang="de-DE" sz="4800" spc="-1" strike="noStrike">
                <a:solidFill>
                  <a:srgbClr val="ffffcc"/>
                </a:solidFill>
                <a:latin typeface="Arial"/>
              </a:rPr>
              <a:t> DER KREUZE</a:t>
            </a:r>
            <a:r>
              <a:rPr b="0" lang="lt-LT" sz="4800" spc="-1" strike="noStrike">
                <a:solidFill>
                  <a:srgbClr val="ffffcc"/>
                </a:solidFill>
                <a:latin typeface="Arial"/>
              </a:rPr>
              <a:t> </a:t>
            </a:r>
            <a:endParaRPr b="0" lang="en-US" sz="4800" spc="-1" strike="noStrike">
              <a:solidFill>
                <a:srgbClr val="ffffcc"/>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51"/>
            </a:gs>
            <a:gs pos="100000">
              <a:srgbClr val="00808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2"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3" name="" descr=""/>
          <p:cNvPicPr/>
          <p:nvPr/>
        </p:nvPicPr>
        <p:blipFill>
          <a:blip r:embed="rId1"/>
          <a:stretch/>
        </p:blipFill>
        <p:spPr>
          <a:xfrm>
            <a:off x="4645080" y="1598760"/>
            <a:ext cx="4037040" cy="4497120"/>
          </a:xfrm>
          <a:prstGeom prst="rect">
            <a:avLst/>
          </a:prstGeom>
          <a:ln w="0">
            <a:noFill/>
          </a:ln>
        </p:spPr>
      </p:pic>
      <p:pic>
        <p:nvPicPr>
          <p:cNvPr id="244" name="" descr=""/>
          <p:cNvPicPr/>
          <p:nvPr/>
        </p:nvPicPr>
        <p:blipFill>
          <a:blip r:embed="rId2"/>
          <a:stretch/>
        </p:blipFill>
        <p:spPr>
          <a:xfrm>
            <a:off x="539640" y="1700280"/>
            <a:ext cx="3672000" cy="4397400"/>
          </a:xfrm>
          <a:prstGeom prst="rect">
            <a:avLst/>
          </a:prstGeom>
          <a:ln w="0">
            <a:noFill/>
          </a:ln>
        </p:spPr>
      </p:pic>
      <p:pic>
        <p:nvPicPr>
          <p:cNvPr id="245" name="" descr=""/>
          <p:cNvPicPr/>
          <p:nvPr/>
        </p:nvPicPr>
        <p:blipFill>
          <a:blip r:embed="rId3"/>
          <a:stretch/>
        </p:blipFill>
        <p:spPr>
          <a:xfrm>
            <a:off x="4716360" y="1628640"/>
            <a:ext cx="3888000" cy="446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51"/>
            </a:gs>
            <a:gs pos="100000">
              <a:srgbClr val="00808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000" spc="-1" strike="noStrike">
                <a:solidFill>
                  <a:srgbClr val="ffffff"/>
                </a:solidFill>
                <a:latin typeface="Arial"/>
              </a:rPr>
              <a:t>Berg der Kreuze</a:t>
            </a:r>
            <a:br>
              <a:rPr sz="4000"/>
            </a:br>
            <a:endParaRPr b="0" lang="en-US" sz="4000" spc="-1" strike="noStrike">
              <a:solidFill>
                <a:srgbClr val="ffffcc"/>
              </a:solidFill>
              <a:latin typeface="Arial"/>
            </a:endParaRPr>
          </a:p>
        </p:txBody>
      </p:sp>
      <p:sp>
        <p:nvSpPr>
          <p:cNvPr id="247" name="PlaceHolder 2"/>
          <p:cNvSpPr>
            <a:spLocks noGrp="1"/>
          </p:cNvSpPr>
          <p:nvPr>
            <p:ph/>
          </p:nvPr>
        </p:nvSpPr>
        <p:spPr>
          <a:xfrm>
            <a:off x="455400" y="3922200"/>
            <a:ext cx="8226360" cy="2173320"/>
          </a:xfrm>
          <a:prstGeom prst="rect">
            <a:avLst/>
          </a:prstGeom>
          <a:noFill/>
          <a:ln w="0">
            <a:noFill/>
          </a:ln>
        </p:spPr>
        <p:txBody>
          <a:bodyPr lIns="90000" rIns="90000" tIns="46800" bIns="46800" anchor="t">
            <a:normAutofit/>
          </a:bodyPr>
          <a:p>
            <a:pPr marL="343080" indent="-343080">
              <a:spcBef>
                <a:spcPts val="700"/>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Arial"/>
              </a:rPr>
              <a:t>Der Berg der Kreuze (engl. Hill of Crosses) in Litauen ist ein katholisch und touristisch geprägter Wallfahrtsort unweit von Siauliai.</a:t>
            </a:r>
            <a:endParaRPr b="0" lang="en-US" sz="2800" spc="-1" strike="noStrike">
              <a:solidFill>
                <a:srgbClr val="ffffff"/>
              </a:solidFill>
              <a:latin typeface="Arial"/>
            </a:endParaRPr>
          </a:p>
        </p:txBody>
      </p:sp>
      <p:pic>
        <p:nvPicPr>
          <p:cNvPr id="248" name="" descr="Kryžių kalno panorama"/>
          <p:cNvPicPr/>
          <p:nvPr/>
        </p:nvPicPr>
        <p:blipFill>
          <a:blip r:embed="rId1"/>
          <a:stretch/>
        </p:blipFill>
        <p:spPr>
          <a:xfrm>
            <a:off x="250920" y="1484280"/>
            <a:ext cx="8424720" cy="223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51"/>
            </a:gs>
            <a:gs pos="100000">
              <a:srgbClr val="008080"/>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0" name=""/>
          <p:cNvSpPr txBox="1"/>
          <p:nvPr/>
        </p:nvSpPr>
        <p:spPr>
          <a:xfrm>
            <a:off x="455760" y="1598760"/>
            <a:ext cx="4037040" cy="4497120"/>
          </a:xfrm>
          <a:prstGeom prst="rect">
            <a:avLst/>
          </a:prstGeom>
          <a:noFill/>
          <a:ln w="0">
            <a:noFill/>
          </a:ln>
        </p:spPr>
        <p:txBody>
          <a:bodyPr lIns="90000" rIns="90000" tIns="46800" bIns="46800" anchor="t">
            <a:normAutofit fontScale="94000"/>
          </a:bodyPr>
          <a:p>
            <a:pPr marL="322200" indent="-322200">
              <a:spcBef>
                <a:spcPts val="700"/>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Arial"/>
              </a:rPr>
              <a:t>Abertausende von Kreuzen aus Holz, Metall oder Plastik, über und über mit Reliquien, Heiligenbildern und weiteren Kreuzen behängt, bedecken einen 16 Meter hohen Hügel und eine große Gegend darum herum. </a:t>
            </a:r>
            <a:endParaRPr b="0" lang="en-US" sz="2800" spc="-1" strike="noStrike">
              <a:solidFill>
                <a:srgbClr val="ffffff"/>
              </a:solidFill>
              <a:latin typeface="Arial"/>
            </a:endParaRPr>
          </a:p>
        </p:txBody>
      </p:sp>
      <p:pic>
        <p:nvPicPr>
          <p:cNvPr id="251" name="" descr=""/>
          <p:cNvPicPr/>
          <p:nvPr/>
        </p:nvPicPr>
        <p:blipFill>
          <a:blip r:embed="rId1"/>
          <a:stretch/>
        </p:blipFill>
        <p:spPr>
          <a:xfrm>
            <a:off x="4645080" y="1598760"/>
            <a:ext cx="4037040" cy="449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51"/>
            </a:gs>
            <a:gs pos="100000">
              <a:srgbClr val="00808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3" name=""/>
          <p:cNvSpPr txBox="1"/>
          <p:nvPr/>
        </p:nvSpPr>
        <p:spPr>
          <a:xfrm>
            <a:off x="455760" y="1598760"/>
            <a:ext cx="4037040" cy="4497120"/>
          </a:xfrm>
          <a:prstGeom prst="rect">
            <a:avLst/>
          </a:prstGeom>
          <a:noFill/>
          <a:ln w="0">
            <a:noFill/>
          </a:ln>
        </p:spPr>
        <p:txBody>
          <a:bodyPr lIns="90000" rIns="90000" tIns="46800" bIns="46800" anchor="t">
            <a:normAutofit/>
          </a:bodyPr>
          <a:p>
            <a:pPr marL="343080" indent="-343080">
              <a:spcBef>
                <a:spcPts val="700"/>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Arial"/>
              </a:rPr>
              <a:t>Die Tradition der Kreuzaufstellung, begann bei den zaristischen Aufständen von 1831 und 1863, wurde später zum Symbol des Widerstandes gegen die sowjetische Fremdherrschaft. </a:t>
            </a:r>
            <a:endParaRPr b="0" lang="en-US" sz="2800" spc="-1" strike="noStrike">
              <a:solidFill>
                <a:srgbClr val="ffffff"/>
              </a:solidFill>
              <a:latin typeface="Arial"/>
            </a:endParaRPr>
          </a:p>
        </p:txBody>
      </p:sp>
      <p:pic>
        <p:nvPicPr>
          <p:cNvPr id="254" name="" descr=""/>
          <p:cNvPicPr/>
          <p:nvPr/>
        </p:nvPicPr>
        <p:blipFill>
          <a:blip r:embed="rId1"/>
          <a:stretch/>
        </p:blipFill>
        <p:spPr>
          <a:xfrm>
            <a:off x="4645080" y="1598760"/>
            <a:ext cx="4037040" cy="4497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51"/>
            </a:gs>
            <a:gs pos="100000">
              <a:srgbClr val="008080"/>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6" name="PlaceHolder 2"/>
          <p:cNvSpPr>
            <a:spLocks noGrp="1"/>
          </p:cNvSpPr>
          <p:nvPr>
            <p:ph/>
          </p:nvPr>
        </p:nvSpPr>
        <p:spPr>
          <a:xfrm>
            <a:off x="455760" y="1598760"/>
            <a:ext cx="4038480" cy="44971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Arial"/>
              </a:rPr>
              <a:t>Der Berg der Kreuze in Siauliai ist ein historisches und architektonisches Denkmal, nicht nur eine der TOP Sehenswürdigkeiten in Litauen sondern weltweit. Der Berg der Kreuze zieht die Menschen, alle Gläubige mit seiner Ruhe, Geistigkeit, der authentischen und sakralen Wesenheit an. </a:t>
            </a:r>
            <a:endParaRPr b="0" lang="en-US" sz="2400" spc="-1" strike="noStrike">
              <a:solidFill>
                <a:srgbClr val="ffffff"/>
              </a:solidFill>
              <a:latin typeface="Arial"/>
            </a:endParaRPr>
          </a:p>
        </p:txBody>
      </p:sp>
      <p:grpSp>
        <p:nvGrpSpPr>
          <p:cNvPr id="257" name=""/>
          <p:cNvGrpSpPr/>
          <p:nvPr/>
        </p:nvGrpSpPr>
        <p:grpSpPr>
          <a:xfrm>
            <a:off x="4643280" y="1598760"/>
            <a:ext cx="4038840" cy="4497120"/>
            <a:chOff x="4643280" y="1598760"/>
            <a:chExt cx="4038840" cy="4497120"/>
          </a:xfrm>
        </p:grpSpPr>
        <p:pic>
          <p:nvPicPr>
            <p:cNvPr id="258" name="" descr=""/>
            <p:cNvPicPr/>
            <p:nvPr/>
          </p:nvPicPr>
          <p:blipFill>
            <a:blip r:embed="rId1"/>
            <a:stretch/>
          </p:blipFill>
          <p:spPr>
            <a:xfrm>
              <a:off x="4643280" y="1598760"/>
              <a:ext cx="4038840" cy="4497120"/>
            </a:xfrm>
            <a:prstGeom prst="rect">
              <a:avLst/>
            </a:prstGeom>
            <a:ln w="0">
              <a:noFill/>
            </a:ln>
          </p:spPr>
        </p:pic>
        <p:sp>
          <p:nvSpPr>
            <p:cNvPr id="259" name=""/>
            <p:cNvSpPr txBox="1"/>
            <p:nvPr/>
          </p:nvSpPr>
          <p:spPr>
            <a:xfrm>
              <a:off x="4643280" y="1598760"/>
              <a:ext cx="4038840" cy="44971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51"/>
            </a:gs>
            <a:gs pos="100000">
              <a:srgbClr val="008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1" name="PlaceHolder 2"/>
          <p:cNvSpPr>
            <a:spLocks noGrp="1"/>
          </p:cNvSpPr>
          <p:nvPr>
            <p:ph/>
          </p:nvPr>
        </p:nvSpPr>
        <p:spPr>
          <a:xfrm>
            <a:off x="455760" y="1598760"/>
            <a:ext cx="4038480" cy="44971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Arial"/>
              </a:rPr>
              <a:t>Seit 1988 ist der Berg der Kreuze nicht nur wieder Eigentum von Litauen, sondern auch der ganzen Wel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2" name=""/>
          <p:cNvSpPr txBox="1"/>
          <p:nvPr/>
        </p:nvSpPr>
        <p:spPr>
          <a:xfrm>
            <a:off x="4642920" y="1598760"/>
            <a:ext cx="4038840" cy="44971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3" name="" descr="Berg der kreuze 01.JPG"/>
          <p:cNvPicPr/>
          <p:nvPr/>
        </p:nvPicPr>
        <p:blipFill>
          <a:blip r:embed="rId1"/>
          <a:stretch/>
        </p:blipFill>
        <p:spPr>
          <a:xfrm>
            <a:off x="4788000" y="1700280"/>
            <a:ext cx="3600360" cy="432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51"/>
            </a:gs>
            <a:gs pos="100000">
              <a:srgbClr val="00808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5" name="PlaceHolder 2"/>
          <p:cNvSpPr>
            <a:spLocks noGrp="1"/>
          </p:cNvSpPr>
          <p:nvPr>
            <p:ph/>
          </p:nvPr>
        </p:nvSpPr>
        <p:spPr>
          <a:xfrm>
            <a:off x="455760" y="1598760"/>
            <a:ext cx="4038480" cy="44971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Arial"/>
              </a:rPr>
              <a:t>Im September 1993 besuchte den Berg der Kreuze in Siauliai auch Papst Johannes Paul II. </a:t>
            </a:r>
            <a:endParaRPr b="0" lang="en-US" sz="2800" spc="-1" strike="noStrike">
              <a:solidFill>
                <a:srgbClr val="ffffff"/>
              </a:solidFill>
              <a:latin typeface="Arial"/>
            </a:endParaRPr>
          </a:p>
          <a:p>
            <a:pPr marL="329040" indent="-329040">
              <a:lnSpc>
                <a:spcPct val="90000"/>
              </a:lnSpc>
              <a:spcBef>
                <a:spcPts val="700"/>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Arial"/>
              </a:rPr>
              <a:t>Er hielt eine heilige Messe ab und betete für die litauischen Märtyrer des Glaubens und das ganze christliche Europa. </a:t>
            </a:r>
            <a:endParaRPr b="0" lang="en-US" sz="2800" spc="-1" strike="noStrike">
              <a:solidFill>
                <a:srgbClr val="ffffff"/>
              </a:solidFill>
              <a:latin typeface="Arial"/>
            </a:endParaRPr>
          </a:p>
        </p:txBody>
      </p:sp>
      <p:sp>
        <p:nvSpPr>
          <p:cNvPr id="266" name=""/>
          <p:cNvSpPr txBox="1"/>
          <p:nvPr/>
        </p:nvSpPr>
        <p:spPr>
          <a:xfrm>
            <a:off x="4642920" y="1598760"/>
            <a:ext cx="403884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7" name="" descr="Popiežius Jonas Paulius II Kryžių kalne, 1993 m. ... fotografija"/>
          <p:cNvPicPr/>
          <p:nvPr/>
        </p:nvPicPr>
        <p:blipFill>
          <a:blip r:embed="rId1"/>
          <a:stretch/>
        </p:blipFill>
        <p:spPr>
          <a:xfrm>
            <a:off x="4932360" y="2133720"/>
            <a:ext cx="3384720" cy="345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51"/>
            </a:gs>
            <a:gs pos="100000">
              <a:srgbClr val="00808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9" name="PlaceHolder 2"/>
          <p:cNvSpPr>
            <a:spLocks noGrp="1"/>
          </p:cNvSpPr>
          <p:nvPr>
            <p:ph/>
          </p:nvPr>
        </p:nvSpPr>
        <p:spPr>
          <a:xfrm>
            <a:off x="455760" y="1598760"/>
            <a:ext cx="4038480" cy="44971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m Moment zählt man hier über 20.000 Kreuze: einige sind die echten Meisterwerke, andere sind bescheidene Holzkruzifixe. </a:t>
            </a:r>
            <a:endParaRPr b="0" lang="en-US" sz="2400" spc="-1" strike="noStrike">
              <a:solidFill>
                <a:srgbClr val="ffffff"/>
              </a:solidFill>
              <a:latin typeface="Arial"/>
            </a:endParaRPr>
          </a:p>
          <a:p>
            <a:pPr marL="343080" indent="-343080">
              <a:lnSpc>
                <a:spcPct val="80000"/>
              </a:lnSpc>
              <a:spcBef>
                <a:spcPts val="499"/>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n diesem Berg steht auch das von einem litauischen Kreuzmacher eingerichtete Kreuz zum Besuch des Papstes Jahann Paul der Zweite in Litauen 1993</a:t>
            </a:r>
            <a:r>
              <a:rPr b="0" lang="de-DE" sz="2000" spc="-1" strike="noStrike">
                <a:solidFill>
                  <a:srgbClr val="ffffff"/>
                </a:solidFill>
                <a:latin typeface="Arial"/>
              </a:rPr>
              <a:t>.</a:t>
            </a:r>
            <a:endParaRPr b="0" lang="en-US" sz="2000" spc="-1" strike="noStrike">
              <a:solidFill>
                <a:srgbClr val="ffffff"/>
              </a:solidFill>
              <a:latin typeface="Arial"/>
            </a:endParaRPr>
          </a:p>
        </p:txBody>
      </p:sp>
      <p:grpSp>
        <p:nvGrpSpPr>
          <p:cNvPr id="270" name=""/>
          <p:cNvGrpSpPr/>
          <p:nvPr/>
        </p:nvGrpSpPr>
        <p:grpSpPr>
          <a:xfrm>
            <a:off x="4643280" y="1598760"/>
            <a:ext cx="4038840" cy="4497120"/>
            <a:chOff x="4643280" y="1598760"/>
            <a:chExt cx="4038840" cy="4497120"/>
          </a:xfrm>
        </p:grpSpPr>
        <p:pic>
          <p:nvPicPr>
            <p:cNvPr id="271" name="" descr=""/>
            <p:cNvPicPr/>
            <p:nvPr/>
          </p:nvPicPr>
          <p:blipFill>
            <a:blip r:embed="rId1"/>
            <a:stretch/>
          </p:blipFill>
          <p:spPr>
            <a:xfrm>
              <a:off x="4643280" y="1598760"/>
              <a:ext cx="4038840" cy="4497120"/>
            </a:xfrm>
            <a:prstGeom prst="rect">
              <a:avLst/>
            </a:prstGeom>
            <a:ln w="0">
              <a:noFill/>
            </a:ln>
          </p:spPr>
        </p:pic>
        <p:sp>
          <p:nvSpPr>
            <p:cNvPr id="272" name=""/>
            <p:cNvSpPr txBox="1"/>
            <p:nvPr/>
          </p:nvSpPr>
          <p:spPr>
            <a:xfrm>
              <a:off x="4643280" y="1598760"/>
              <a:ext cx="403884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51"/>
            </a:gs>
            <a:gs pos="100000">
              <a:srgbClr val="008080"/>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4" name="PlaceHolder 2"/>
          <p:cNvSpPr>
            <a:spLocks noGrp="1"/>
          </p:cNvSpPr>
          <p:nvPr>
            <p:ph/>
          </p:nvPr>
        </p:nvSpPr>
        <p:spPr>
          <a:xfrm>
            <a:off x="455760" y="1598760"/>
            <a:ext cx="4038480" cy="44971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ie Kreuzmacherei war früher und ist heute eine Tradition der Volkskunst, die nur mündlich und durch die direkte Vorstellung übergeben wurd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 </a:t>
            </a:r>
            <a:r>
              <a:rPr b="0" lang="de-DE" sz="2000" spc="-1" strike="noStrike">
                <a:solidFill>
                  <a:srgbClr val="ffffff"/>
                </a:solidFill>
                <a:latin typeface="Arial"/>
              </a:rPr>
              <a:t>Diese Kunstart war  nirgendwo und nie unterrichtet  oder gelehrt.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ie Kreuze und Betsäulen wurden immer nur von laienhaften Volksmeistern, für die diese Beschäftigung ein Hobby gewesen ist, gebastelt.</a:t>
            </a:r>
            <a:r>
              <a:rPr b="0" lang="lt-LT" sz="2000" spc="-1" strike="noStrike">
                <a:solidFill>
                  <a:srgbClr val="ffffff"/>
                </a:solidFill>
                <a:latin typeface="Arial"/>
              </a:rPr>
              <a:t> </a:t>
            </a:r>
            <a:endParaRPr b="0" lang="en-US" sz="2000" spc="-1" strike="noStrike">
              <a:solidFill>
                <a:srgbClr val="ffffff"/>
              </a:solidFill>
              <a:latin typeface="Arial"/>
            </a:endParaRPr>
          </a:p>
        </p:txBody>
      </p:sp>
      <p:pic>
        <p:nvPicPr>
          <p:cNvPr id="275" name="" descr=""/>
          <p:cNvPicPr/>
          <p:nvPr/>
        </p:nvPicPr>
        <p:blipFill>
          <a:blip r:embed="rId1"/>
          <a:stretch/>
        </p:blipFill>
        <p:spPr>
          <a:xfrm>
            <a:off x="4643280" y="1844640"/>
            <a:ext cx="4321440" cy="3889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51"/>
            </a:gs>
            <a:gs pos="100000">
              <a:srgbClr val="00808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a typeface="Arial"/>
            </a:endParaRPr>
          </a:p>
        </p:txBody>
      </p:sp>
      <p:sp>
        <p:nvSpPr>
          <p:cNvPr id="27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Arial"/>
              </a:rPr>
              <a:t>DANKE F</a:t>
            </a:r>
            <a:r>
              <a:rPr b="0" lang="en-US" sz="3200" spc="-1" strike="noStrike">
                <a:solidFill>
                  <a:srgbClr val="ffffff"/>
                </a:solidFill>
                <a:latin typeface="Arial"/>
                <a:ea typeface="Arial"/>
              </a:rPr>
              <a:t>Ü</a:t>
            </a:r>
            <a:r>
              <a:rPr b="0" lang="lt-LT" sz="3200" spc="-1" strike="noStrike">
                <a:solidFill>
                  <a:srgbClr val="ffffff"/>
                </a:solidFill>
                <a:latin typeface="Arial"/>
                <a:ea typeface="Arial"/>
              </a:rPr>
              <a:t>R DIE AUFMERKSAMKE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51"/>
            </a:gs>
            <a:gs pos="100000">
              <a:srgbClr val="00808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KREUZMACHEREI UND SYMBOLIK DER KREUZE</a:t>
            </a:r>
            <a:r>
              <a:rPr b="0" lang="lt-LT" sz="4000" spc="-1" strike="noStrike">
                <a:solidFill>
                  <a:srgbClr val="ffffcc"/>
                </a:solidFill>
                <a:latin typeface="Arial"/>
              </a:rPr>
              <a:t> </a:t>
            </a:r>
            <a:endParaRPr b="0" lang="en-US" sz="4000" spc="-1" strike="noStrike">
              <a:solidFill>
                <a:srgbClr val="ffffcc"/>
              </a:solidFill>
              <a:latin typeface="Arial"/>
            </a:endParaRPr>
          </a:p>
        </p:txBody>
      </p:sp>
      <p:sp>
        <p:nvSpPr>
          <p:cNvPr id="215" name="PlaceHolder 2"/>
          <p:cNvSpPr>
            <a:spLocks noGrp="1"/>
          </p:cNvSpPr>
          <p:nvPr>
            <p:ph/>
          </p:nvPr>
        </p:nvSpPr>
        <p:spPr>
          <a:xfrm>
            <a:off x="455760" y="1598760"/>
            <a:ext cx="403848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Kreuzmacherei ist eine einzigartige Volkskunstart, die auf die UNESCO Erbeliste der menschlichen und mündlichen Meisterwerke im Jahre 2001  eingetragen</a:t>
            </a:r>
            <a:r>
              <a:rPr b="0" lang="de-DE" sz="3200" spc="-1" strike="noStrike">
                <a:solidFill>
                  <a:srgbClr val="ffffff"/>
                </a:solidFill>
                <a:latin typeface="Arial"/>
              </a:rPr>
              <a:t> wurde.</a:t>
            </a:r>
            <a:r>
              <a:rPr b="0" lang="lt-LT" sz="2800" spc="-1" strike="noStrike">
                <a:solidFill>
                  <a:srgbClr val="000000"/>
                </a:solidFill>
                <a:latin typeface="Arial"/>
              </a:rPr>
              <a:t> </a:t>
            </a:r>
            <a:endParaRPr b="0" lang="en-US" sz="2800" spc="-1" strike="noStrike">
              <a:solidFill>
                <a:srgbClr val="ffffff"/>
              </a:solidFill>
              <a:latin typeface="Arial"/>
            </a:endParaRPr>
          </a:p>
        </p:txBody>
      </p:sp>
      <p:pic>
        <p:nvPicPr>
          <p:cNvPr id="216" name="" descr=""/>
          <p:cNvPicPr/>
          <p:nvPr/>
        </p:nvPicPr>
        <p:blipFill>
          <a:blip r:embed="rId1"/>
          <a:stretch/>
        </p:blipFill>
        <p:spPr>
          <a:xfrm>
            <a:off x="5000760" y="1771560"/>
            <a:ext cx="3670200" cy="371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51"/>
            </a:gs>
            <a:gs pos="100000">
              <a:srgbClr val="008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cc"/>
                </a:solidFill>
                <a:latin typeface="Arial"/>
              </a:rPr>
              <a:t>KREUZMACHEREI</a:t>
            </a:r>
            <a:endParaRPr b="0" lang="en-US" sz="4400" spc="-1" strike="noStrike">
              <a:solidFill>
                <a:srgbClr val="ffffcc"/>
              </a:solidFill>
              <a:latin typeface="Arial"/>
            </a:endParaRPr>
          </a:p>
        </p:txBody>
      </p:sp>
      <p:sp>
        <p:nvSpPr>
          <p:cNvPr id="218" name=""/>
          <p:cNvSpPr txBox="1"/>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litauischen traditionellen Kreuze sind die eigenartigen  Bauten, die Elemente der Architektur, Bildhauerei, des Schmiedehandwerks und sogar elementarer Malerei vereinigen. </a:t>
            </a:r>
            <a:endParaRPr b="0" lang="en-US" sz="2800" spc="-1" strike="noStrike">
              <a:solidFill>
                <a:srgbClr val="ffffff"/>
              </a:solidFill>
              <a:latin typeface="Arial"/>
            </a:endParaRPr>
          </a:p>
          <a:p>
            <a:pPr marL="343080" indent="-343080">
              <a:spcBef>
                <a:spcPts val="700"/>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Man sieht  an Kreuzen die oft aus archaischen Zeiten uns erreichten Pflanzenornamente, Sonnen- oder Vogel-, Lebensbaummotive. Sie widerspiegeln die Behandlung des Sakralraumes.</a:t>
            </a:r>
            <a:r>
              <a:rPr b="0" lang="lt-LT"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51"/>
            </a:gs>
            <a:gs pos="100000">
              <a:srgbClr val="008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20" name="" descr=""/>
          <p:cNvPicPr/>
          <p:nvPr/>
        </p:nvPicPr>
        <p:blipFill>
          <a:blip r:embed="rId1"/>
          <a:stretch/>
        </p:blipFill>
        <p:spPr>
          <a:xfrm>
            <a:off x="868320" y="1598760"/>
            <a:ext cx="3211560" cy="4497120"/>
          </a:xfrm>
          <a:prstGeom prst="rect">
            <a:avLst/>
          </a:prstGeom>
          <a:ln w="0">
            <a:noFill/>
          </a:ln>
        </p:spPr>
      </p:pic>
      <p:pic>
        <p:nvPicPr>
          <p:cNvPr id="221" name="" descr=""/>
          <p:cNvPicPr/>
          <p:nvPr/>
        </p:nvPicPr>
        <p:blipFill>
          <a:blip r:embed="rId2"/>
          <a:stretch/>
        </p:blipFill>
        <p:spPr>
          <a:xfrm>
            <a:off x="5383080" y="1598760"/>
            <a:ext cx="2560680" cy="449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51"/>
            </a:gs>
            <a:gs pos="100000">
              <a:srgbClr val="00808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23" name="" descr=""/>
          <p:cNvPicPr/>
          <p:nvPr/>
        </p:nvPicPr>
        <p:blipFill>
          <a:blip r:embed="rId1"/>
          <a:stretch/>
        </p:blipFill>
        <p:spPr>
          <a:xfrm>
            <a:off x="4645080" y="1598760"/>
            <a:ext cx="4037040" cy="4497120"/>
          </a:xfrm>
          <a:prstGeom prst="rect">
            <a:avLst/>
          </a:prstGeom>
          <a:ln w="0">
            <a:noFill/>
          </a:ln>
        </p:spPr>
      </p:pic>
      <p:pic>
        <p:nvPicPr>
          <p:cNvPr id="224" name="" descr=""/>
          <p:cNvPicPr/>
          <p:nvPr/>
        </p:nvPicPr>
        <p:blipFill>
          <a:blip r:embed="rId2"/>
          <a:stretch/>
        </p:blipFill>
        <p:spPr>
          <a:xfrm>
            <a:off x="1193760" y="1598760"/>
            <a:ext cx="2559240" cy="449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51"/>
            </a:gs>
            <a:gs pos="100000">
              <a:srgbClr val="00808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226" name="" descr=""/>
          <p:cNvPicPr/>
          <p:nvPr/>
        </p:nvPicPr>
        <p:blipFill>
          <a:blip r:embed="rId1"/>
          <a:stretch/>
        </p:blipFill>
        <p:spPr>
          <a:xfrm>
            <a:off x="455760" y="1598760"/>
            <a:ext cx="4037040" cy="4497120"/>
          </a:xfrm>
          <a:prstGeom prst="rect">
            <a:avLst/>
          </a:prstGeom>
          <a:ln w="0">
            <a:noFill/>
          </a:ln>
        </p:spPr>
      </p:pic>
      <p:pic>
        <p:nvPicPr>
          <p:cNvPr id="227" name="" descr=""/>
          <p:cNvPicPr/>
          <p:nvPr/>
        </p:nvPicPr>
        <p:blipFill>
          <a:blip r:embed="rId2"/>
          <a:stretch/>
        </p:blipFill>
        <p:spPr>
          <a:xfrm>
            <a:off x="4645080" y="1598760"/>
            <a:ext cx="4037040" cy="4497120"/>
          </a:xfrm>
          <a:prstGeom prst="rect">
            <a:avLst/>
          </a:prstGeom>
          <a:ln w="0">
            <a:noFill/>
          </a:ln>
        </p:spPr>
      </p:pic>
      <p:pic>
        <p:nvPicPr>
          <p:cNvPr id="228" name="" descr="File:Paskarbe cross.jpg">
            <a:hlinkClick r:id="rId3"/>
          </p:cNvPr>
          <p:cNvPicPr/>
          <p:nvPr/>
        </p:nvPicPr>
        <p:blipFill>
          <a:blip r:embed="rId4"/>
          <a:stretch/>
        </p:blipFill>
        <p:spPr>
          <a:xfrm>
            <a:off x="4788000" y="1557360"/>
            <a:ext cx="3816360" cy="4464000"/>
          </a:xfrm>
          <a:prstGeom prst="rect">
            <a:avLst/>
          </a:prstGeom>
          <a:ln w="0">
            <a:noFill/>
          </a:ln>
        </p:spPr>
      </p:pic>
      <p:pic>
        <p:nvPicPr>
          <p:cNvPr id="229" name="" descr="">
            <a:hlinkClick r:id="rId5"/>
          </p:cNvPr>
          <p:cNvPicPr/>
          <p:nvPr/>
        </p:nvPicPr>
        <p:blipFill>
          <a:blip r:embed="rId6"/>
          <a:stretch/>
        </p:blipFill>
        <p:spPr>
          <a:xfrm>
            <a:off x="468360" y="1628640"/>
            <a:ext cx="3959280" cy="43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51"/>
            </a:gs>
            <a:gs pos="100000">
              <a:srgbClr val="00808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cc"/>
                </a:solidFill>
                <a:latin typeface="Arial"/>
              </a:rPr>
              <a:t>KREUZMACHEREI</a:t>
            </a:r>
            <a:endParaRPr b="0" lang="en-US" sz="4400" spc="-1" strike="noStrike">
              <a:solidFill>
                <a:srgbClr val="ffffcc"/>
              </a:solidFill>
              <a:latin typeface="Arial"/>
            </a:endParaRPr>
          </a:p>
        </p:txBody>
      </p:sp>
      <p:sp>
        <p:nvSpPr>
          <p:cNvPr id="23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Kreuze wurden hartnäckig errichtet in ihrer Verbotszeit, in der Epoche der russischen Zaren- (die zweite Hälfte des 19.Jh.s) und Sowjetokkupation (in den fünfziger-achtziger Jahren des 20.Jh.s). </a:t>
            </a:r>
            <a:endParaRPr b="0" lang="en-US" sz="2800" spc="-1" strike="noStrike">
              <a:solidFill>
                <a:srgbClr val="ffffff"/>
              </a:solidFill>
              <a:latin typeface="Arial"/>
            </a:endParaRPr>
          </a:p>
          <a:p>
            <a:pPr marL="343080" indent="-343080">
              <a:lnSpc>
                <a:spcPct val="90000"/>
              </a:lnSpc>
              <a:spcBef>
                <a:spcPts val="700"/>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Unter solchen Bedingungen waren diese vielfältige  Denkmäler am Ende des 19.Jh.s eine Äußerungsform der nationalen Identität und sie bekamen in dieser Zeit neben dem religiösen sowie traditionellen Inhalt auch den Status des nationalen Symbo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51"/>
            </a:gs>
            <a:gs pos="100000">
              <a:srgbClr val="00808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3" name="PlaceHolder 2"/>
          <p:cNvSpPr>
            <a:spLocks noGrp="1"/>
          </p:cNvSpPr>
          <p:nvPr>
            <p:ph/>
          </p:nvPr>
        </p:nvSpPr>
        <p:spPr>
          <a:xfrm>
            <a:off x="455760" y="1598760"/>
            <a:ext cx="4038480" cy="44971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Besonders viele Kreuze standen an Straßenwegen und Bauernhöfen in litauischen Regionen </a:t>
            </a:r>
            <a:r>
              <a:rPr b="0" lang="lt-LT" sz="2000" spc="-1" strike="noStrike">
                <a:solidFill>
                  <a:srgbClr val="ffffff"/>
                </a:solidFill>
                <a:latin typeface="Arial"/>
              </a:rPr>
              <a:t>Žemaitija </a:t>
            </a:r>
            <a:r>
              <a:rPr b="0" lang="de-DE" sz="2000" spc="-1" strike="noStrike">
                <a:solidFill>
                  <a:srgbClr val="ffffff"/>
                </a:solidFill>
                <a:latin typeface="Arial"/>
              </a:rPr>
              <a:t>(Nordwest-Litauen)</a:t>
            </a:r>
            <a:r>
              <a:rPr b="0" lang="lt-LT" sz="2000" spc="-1" strike="noStrike">
                <a:solidFill>
                  <a:srgbClr val="ffffff"/>
                </a:solidFill>
                <a:latin typeface="Arial"/>
              </a:rPr>
              <a:t>, Auštaitija (Ost und Nordost-Litauen), Dzūkija (Südost-Litauen).</a:t>
            </a:r>
            <a:endParaRPr b="0" lang="en-US" sz="2000" spc="-1" strike="noStrike">
              <a:solidFill>
                <a:srgbClr val="ffffff"/>
              </a:solidFill>
              <a:latin typeface="Arial"/>
            </a:endParaRPr>
          </a:p>
          <a:p>
            <a:pPr marL="343080" indent="-343080">
              <a:lnSpc>
                <a:spcPct val="90000"/>
              </a:lnSpc>
              <a:spcBef>
                <a:spcPts val="499"/>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Arial"/>
              </a:rPr>
              <a:t> </a:t>
            </a:r>
            <a:r>
              <a:rPr b="0" lang="lt-LT" sz="2000" spc="-1" strike="noStrike">
                <a:solidFill>
                  <a:srgbClr val="ffffff"/>
                </a:solidFill>
                <a:latin typeface="Arial"/>
              </a:rPr>
              <a:t>Manche Kreuze waren schlank, graziös, ihre Schnitzerei </a:t>
            </a:r>
            <a:r>
              <a:rPr b="0" lang="de-DE" sz="2000" spc="-1" strike="noStrike">
                <a:solidFill>
                  <a:srgbClr val="ffffff"/>
                </a:solidFill>
                <a:latin typeface="Arial"/>
              </a:rPr>
              <a:t>sahen wie Holzhäkeleien aus;</a:t>
            </a:r>
            <a:endParaRPr b="0" lang="en-US" sz="2000" spc="-1" strike="noStrike">
              <a:solidFill>
                <a:srgbClr val="ffffff"/>
              </a:solidFill>
              <a:latin typeface="Arial"/>
            </a:endParaRPr>
          </a:p>
          <a:p>
            <a:pPr marL="343080" indent="-343080">
              <a:lnSpc>
                <a:spcPct val="90000"/>
              </a:lnSpc>
              <a:spcBef>
                <a:spcPts val="499"/>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 </a:t>
            </a:r>
            <a:r>
              <a:rPr b="0" lang="de-DE" sz="2000" spc="-1" strike="noStrike">
                <a:solidFill>
                  <a:srgbClr val="ffffff"/>
                </a:solidFill>
                <a:latin typeface="Arial"/>
              </a:rPr>
              <a:t>andere Kreuze waren dickstämmig oder mit zahlreichen Figuren, erinnerten mehr an Skulpturen. </a:t>
            </a:r>
            <a:endParaRPr b="0" lang="en-US" sz="2000" spc="-1" strike="noStrike">
              <a:solidFill>
                <a:srgbClr val="ffffff"/>
              </a:solidFill>
              <a:latin typeface="Arial"/>
            </a:endParaRPr>
          </a:p>
        </p:txBody>
      </p:sp>
      <p:sp>
        <p:nvSpPr>
          <p:cNvPr id="234" name=""/>
          <p:cNvSpPr txBox="1"/>
          <p:nvPr/>
        </p:nvSpPr>
        <p:spPr>
          <a:xfrm>
            <a:off x="4642920" y="1598760"/>
            <a:ext cx="4038840" cy="44971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5" name="" descr=""/>
          <p:cNvPicPr/>
          <p:nvPr/>
        </p:nvPicPr>
        <p:blipFill>
          <a:blip r:embed="rId1"/>
          <a:stretch/>
        </p:blipFill>
        <p:spPr>
          <a:xfrm>
            <a:off x="4643280" y="1628640"/>
            <a:ext cx="2233800" cy="2952720"/>
          </a:xfrm>
          <a:prstGeom prst="rect">
            <a:avLst/>
          </a:prstGeom>
          <a:ln w="0">
            <a:noFill/>
          </a:ln>
        </p:spPr>
      </p:pic>
      <p:pic>
        <p:nvPicPr>
          <p:cNvPr id="236" name="" descr="Zervynos kryziai.jpg"/>
          <p:cNvPicPr/>
          <p:nvPr/>
        </p:nvPicPr>
        <p:blipFill>
          <a:blip r:embed="rId2"/>
          <a:stretch/>
        </p:blipFill>
        <p:spPr>
          <a:xfrm>
            <a:off x="6877080" y="2924280"/>
            <a:ext cx="1727280" cy="316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151"/>
            </a:gs>
            <a:gs pos="100000">
              <a:srgbClr val="00808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8" name="PlaceHolder 2"/>
          <p:cNvSpPr>
            <a:spLocks noGrp="1"/>
          </p:cNvSpPr>
          <p:nvPr>
            <p:ph/>
          </p:nvPr>
        </p:nvSpPr>
        <p:spPr>
          <a:xfrm>
            <a:off x="455760" y="1598760"/>
            <a:ext cx="4038480" cy="44971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er bekannteste Meister der Kreuzmacherei ist Vincas Svirskis, der in der zweiten Hälfte des 19. – am Anfang des 20.Jh.s  gelebt und gearbeitet hatte. </a:t>
            </a:r>
            <a:endParaRPr b="0" lang="en-US" sz="2400" spc="-1" strike="noStrike">
              <a:solidFill>
                <a:srgbClr val="ffffff"/>
              </a:solidFill>
              <a:latin typeface="Arial"/>
            </a:endParaRPr>
          </a:p>
          <a:p>
            <a:pPr marL="329040" indent="-329040">
              <a:lnSpc>
                <a:spcPct val="90000"/>
              </a:lnSpc>
              <a:spcBef>
                <a:spcPts val="601"/>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eine Kreuze unterscheiden sich durch das Reichtum  der heiligen Figuren und erinnern mehr an Barockkompositionen der litauischen Plastik. </a:t>
            </a:r>
            <a:endParaRPr b="0" lang="en-US" sz="2400" spc="-1" strike="noStrike">
              <a:solidFill>
                <a:srgbClr val="ffffff"/>
              </a:solidFill>
              <a:latin typeface="Arial"/>
            </a:endParaRPr>
          </a:p>
        </p:txBody>
      </p:sp>
      <p:sp>
        <p:nvSpPr>
          <p:cNvPr id="239" name=""/>
          <p:cNvSpPr txBox="1"/>
          <p:nvPr/>
        </p:nvSpPr>
        <p:spPr>
          <a:xfrm>
            <a:off x="4642920" y="1598760"/>
            <a:ext cx="403884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0" name="" descr=""/>
          <p:cNvPicPr/>
          <p:nvPr/>
        </p:nvPicPr>
        <p:blipFill>
          <a:blip r:embed="rId1"/>
          <a:stretch/>
        </p:blipFill>
        <p:spPr>
          <a:xfrm>
            <a:off x="4788000" y="1628640"/>
            <a:ext cx="3600360" cy="460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1T10:00:44Z</dcterms:created>
  <dc:creator>*</dc:creator>
  <dc:description/>
  <dc:language>en-US</dc:language>
  <cp:lastModifiedBy>*</cp:lastModifiedBy>
  <dcterms:modified xsi:type="dcterms:W3CDTF">2010-09-19T15:13:16Z</dcterms:modified>
  <cp:revision>8</cp:revision>
  <dc:subject/>
  <dc:title>UND SYMBOLIK DER KREUZE </dc:title>
</cp:coreProperties>
</file>