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4DD-A540-41A8-B5C6-2C31B234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CE0-ED65-4FC7-933C-152D478C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E89-5264-47BA-87CF-8206E8F6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A37-FE92-4899-94CC-BBE5703B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3975-A2B5-4B57-8890-693ACCA6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98BA-BC60-4B57-85C5-6F4BF1A2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9134-263D-4874-B5B8-68BD6F24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E92D-F4A9-455B-8174-D799B756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AA5A-451D-4FD0-BF70-B6D4C143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679D-7060-4C4F-9BAD-A734AB9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563E-91F2-4204-B95C-0CE3A0BC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57C-63A1-472D-88BD-B2D6246B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D30B-5B17-4AFE-9AC8-9868BC50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B940-830E-46EE-9FC1-A1261FA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5CAD-8B49-487F-AFF7-D57752BC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7403-61D0-4A60-868B-526B5C61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1AC4-B312-4BC5-AD9C-C55AFDDE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E15-A146-4807-A762-59B78CCB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822-B8C8-4718-8BA1-2F98697D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FFC-D360-480D-BACA-DF10DA08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7EE-6D9C-4FFD-9740-54A55FD5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C13-4426-4E92-A7E8-3AC5BD3B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399-4F63-4941-8AD4-038FB4CA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D43-6E2B-4EC4-B8F1-26755618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18EE-5F68-46CE-B2DB-5113669C0011}" type="slidenum">
              <a:rPr b="0" lang="lt-LT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44F1-F3C9-4784-87A1-A84DE44A07D6}" type="slidenum">
              <a:rPr b="0" lang="lt-LT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KERNAVĖ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160" y="549000"/>
            <a:ext cx="3616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Im Sommer finden hier verschiedene Feste,Folklorfestivals statt.Kernave ist auch durch sein traditionelles Rasos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Fest berühm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24000" y="3141720"/>
            <a:ext cx="4862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Im Jahre 2004 wurde die Stadt Kernave in das UNESCO Weltkulturerbe aufgenomme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Mit seiner unikalen Natur,geheimnissvollen Geschichte,schön aufgeräumten Umgebung wartet Kernave auf Euch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419256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3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5400" spc="-1" strike="noStrike">
                <a:solidFill>
                  <a:srgbClr val="f7d47d"/>
                </a:solidFill>
                <a:latin typeface="Arial"/>
              </a:rPr>
              <a:t>VIELEN DANK FÜR         DIE    AUFMERKSAMKEIT</a:t>
            </a:r>
            <a:br>
              <a:rPr sz="5400"/>
            </a:b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2f1311"/>
                </a:solidFill>
                <a:latin typeface="Arial"/>
              </a:rPr>
              <a:t>In Einbildung vieler Litauer entsteht dieser Ort als die Wiege des lita</a:t>
            </a: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u</a:t>
            </a:r>
            <a:r>
              <a:rPr b="0" lang="lt-LT" sz="2000" spc="-1" strike="noStrike">
                <a:solidFill>
                  <a:srgbClr val="2f1311"/>
                </a:solidFill>
                <a:latin typeface="Arial"/>
              </a:rPr>
              <a:t>ischen Staates-mit seinen Legenden,Burgh</a:t>
            </a: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ügeln und mit seiner geheimnissvollen Geschichte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{gegr</a:t>
            </a: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ündet im 1040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Die Begründung von Kernave lässt sich mit dem Enkel des Herrschers Palemonas,der römischen Ursprungs war,Kernius verknüpfen.Diese Gegend wurde eben nach seinem Namen genann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50920" y="3500280"/>
            <a:ext cx="3746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Im Jahre 1989 wurde in Kernave das archäologische und geschichtliche Museum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Schutzgebiet gegründet.Das ist der unikale Komplex von archäologischen,historischen und Naturdenkmälern,der das Territorium von 196 Hektaren umfasst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19640" y="4653000"/>
            <a:ext cx="1306440" cy="849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835280" y="3068640"/>
            <a:ext cx="54100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Die Bekanntschaft mit dem Schutzgebiet ist es am besten von dem Besichtigungsplatz zu beginne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0" t="14678" r="0" b="-14670"/>
          <a:stretch/>
        </p:blipFill>
        <p:spPr>
          <a:xfrm>
            <a:off x="250920" y="2313000"/>
            <a:ext cx="74008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36162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f1311"/>
                </a:solidFill>
                <a:latin typeface="Arial"/>
              </a:rPr>
              <a:t>Einer der eindrucksvollsten Akzente des Schutzgebietes sind fünf nebeneinander stehende Burghügel.Auf dem ältesten zentralen Burghügel Aukuro kalnas stand im Mittelalter die Burg des Fürsten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4614" t="15380" r="-39204" b="0"/>
          <a:stretch/>
        </p:blipFill>
        <p:spPr>
          <a:xfrm>
            <a:off x="2050920" y="3500280"/>
            <a:ext cx="557064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Die häutige Kirche von Kernave wurde zwischen 1910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1920 gebaut.Den Kirchhof smücken die aus Feldsteinen zusammengesetzten Mosaiken,die den Leidweg von Christus darstelle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394160" y="1598760"/>
            <a:ext cx="2894040" cy="2171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392720" y="3922560"/>
            <a:ext cx="28969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In der Stadt ist das staatliche archäologische und historische Museum eingerichte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059280" y="3500280"/>
            <a:ext cx="41464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Auf dem Besichtigungsplatz sind zwei Kapellen zu sehen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Holzkapelle und Mauerkapelle.Sie sind im 18 und 19 Jh.gebaut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2004840" cy="2673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292720" y="3716280"/>
            <a:ext cx="2036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f1311"/>
                </a:solidFill>
                <a:latin typeface="Arial"/>
              </a:rPr>
              <a:t>Seit 20 Jahren werden hier verschiedene Expeditionen organisiert,in denen die Archäologen aus Litauen und aus dem Ausland arbeite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34336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10:30Z</dcterms:created>
  <dc:creator>*</dc:creator>
  <dc:description/>
  <dc:language>en-US</dc:language>
  <cp:lastModifiedBy>*</cp:lastModifiedBy>
  <dcterms:modified xsi:type="dcterms:W3CDTF">2010-08-01T15:25:33Z</dcterms:modified>
  <cp:revision>3</cp:revision>
  <dc:subject/>
  <dc:title>KERNAVĖ</dc:title>
</cp:coreProperties>
</file>