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1015524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BAE1A-45A7-41D9-88E5-76772A7875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06640" y="812880"/>
            <a:ext cx="533844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E80-9573-45DF-B382-D15D61C7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5A0-A346-46F0-8387-39D95388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C41-2815-4AAE-8FA4-8C0154C5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E67C-FE27-4701-95A2-E42D7810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87A-39F9-4C6D-8558-732A2840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905-A0C9-49C8-A03A-E235C903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BD7-CECE-42D0-9CED-61A72B9E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F207-53DF-4D48-AB2A-F6EE6F62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F76E-A83F-46FA-8C62-2793A612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A043-3C31-4BFD-9251-0CBCB56B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9C5B-980D-46BB-86E5-8C511470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5D7-EB8C-4227-8709-606055A8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6b0094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208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0952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0952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0952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55E78-2ED6-4B43-A53F-3AEAA2C8DC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6b0094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479760" y="3403440"/>
          <a:ext cx="3251160" cy="81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9760" y="3403440"/>
                    <a:ext cx="32511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638280"/>
            <a:ext cx="90709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Times New Roman"/>
              </a:rPr>
              <a:t>Wallfahrtskirche des St. Johannes von Nepomuk (Žďár nad Sázavou)</a:t>
            </a:r>
            <a:r>
              <a:rPr b="1" i="1" lang="de-DE" sz="4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6b0094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89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6b0094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66760" y="387360"/>
            <a:ext cx="90644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ffffff"/>
                </a:solidFill>
                <a:latin typeface="Arial"/>
              </a:rPr>
              <a:t>im 18. Jahrhundert ausgebran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ffffff"/>
                </a:solidFill>
                <a:latin typeface="Arial"/>
              </a:rPr>
              <a:t>Von dortigen Leuten gerett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6b0094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6b0094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6b0094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6b0094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0360" y="636480"/>
            <a:ext cx="9067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2286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cs-CZ" sz="4400" spc="-1" strike="noStrike">
                <a:solidFill>
                  <a:srgbClr val="ffffff"/>
                </a:solidFill>
                <a:latin typeface="Times New Roman"/>
              </a:rPr>
              <a:t>Ende</a:t>
            </a:r>
            <a:br>
              <a:rPr sz="4400"/>
            </a:br>
            <a:r>
              <a:rPr b="0" i="1" lang="cs-CZ" sz="4400" spc="-1" strike="noStrike">
                <a:solidFill>
                  <a:srgbClr val="ffffff"/>
                </a:solidFill>
                <a:latin typeface="Times New Roman"/>
              </a:rPr>
              <a:t>Vielen Dank für Ihre Aufmerksamkeit</a:t>
            </a:r>
            <a:br>
              <a:rPr sz="1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6b0094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178920"/>
            <a:ext cx="9070920" cy="13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4400" spc="-1" strike="noStrike">
                <a:solidFill>
                  <a:srgbClr val="ffffff"/>
                </a:solidFill>
                <a:latin typeface="Times New Roman"/>
              </a:rPr>
              <a:t>Wallfahrtskirche des St. Johannes von Nepom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40360" y="234000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2320"/>
                <a:tab algn="l" pos="471600"/>
                <a:tab algn="l" pos="92088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Žďár nad Sázav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2320"/>
                <a:tab algn="l" pos="471600"/>
                <a:tab algn="l" pos="92088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gebaut von Jan Bla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žej       Santi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2320"/>
                <a:tab algn="l" pos="471600"/>
                <a:tab algn="l" pos="92088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eit 1994 UNESCO –        Weltkulturer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619280"/>
            <a:ext cx="5759280" cy="594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6b0094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4120" y="-36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4400" spc="-1" strike="noStrike">
                <a:solidFill>
                  <a:srgbClr val="ffffff"/>
                </a:solidFill>
                <a:latin typeface="Arial"/>
              </a:rPr>
              <a:t>Geschichte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75240" y="1800000"/>
            <a:ext cx="4424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2320"/>
                <a:tab algn="l" pos="471600"/>
                <a:tab algn="l" pos="92088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m Barock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2320"/>
                <a:tab algn="l" pos="471600"/>
                <a:tab algn="l" pos="92088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ebaut in Jahren             1719 – 17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2320"/>
                <a:tab algn="l" pos="471600"/>
                <a:tab algn="l" pos="92088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iel: Verherrlichung        des Johannes von          Nepom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4424400" cy="4984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19640" cy="755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6b0094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6b0094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3400" y="108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4400" spc="-1" strike="noStrike">
                <a:solidFill>
                  <a:srgbClr val="ffffff"/>
                </a:solidFill>
                <a:latin typeface="Times New Roman"/>
              </a:rPr>
              <a:t>Beschrei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400720" y="1800000"/>
            <a:ext cx="4424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rbindet gotische und Barock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undform, Wichtigkeit der Zahl „5“ (5 Sterne des Johannes von Nepomuk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an konstruiert nur mit Hilfe eines Zirk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4424400" cy="498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8920" cy="755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6b0094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89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87640" y="87480"/>
            <a:ext cx="907128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4400" spc="-1" strike="noStrike">
                <a:solidFill>
                  <a:srgbClr val="4700b8"/>
                </a:solidFill>
                <a:latin typeface="Arial"/>
              </a:rPr>
              <a:t>Grundri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6b0094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9640" y="0"/>
            <a:ext cx="9070920" cy="75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ffffff"/>
                </a:solidFill>
                <a:latin typeface="Times New Roman"/>
              </a:rPr>
              <a:t>Innere Rä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2122200"/>
            <a:ext cx="9068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2320"/>
                <a:tab algn="l" pos="471600"/>
                <a:tab algn="l" pos="92088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Kuppel mit Lünetten, mit 10 Pfeilern                   unterstütz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2320"/>
                <a:tab algn="l" pos="471600"/>
                <a:tab algn="l" pos="92088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2 Stockwerke – Tribunen, 10-teilige Galeri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2320"/>
                <a:tab algn="l" pos="471600"/>
                <a:tab algn="l" pos="92088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Reliquie – Zunge des Johannes von                   Nepomu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6b0094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6b0094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40360" cy="7559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40360" y="0"/>
            <a:ext cx="5038560" cy="7559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73040" y="639720"/>
            <a:ext cx="906768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4400" spc="-1" strike="noStrike">
                <a:solidFill>
                  <a:srgbClr val="ffffff"/>
                </a:solidFill>
                <a:latin typeface="Times New Roman"/>
              </a:rPr>
              <a:t>Bedetung der Licht →Symbol der Ewigk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