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C76-8B47-4076-89B6-9167ECB7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1F1-A9DD-40B7-A9FC-131BE7B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85D-EBE4-46D3-A99C-495A1980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E12-BD5A-46D3-8C8C-42D37528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1940-E502-443A-A54C-618F710A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776E-7E48-4EED-9FD2-CD2E19F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973A-803C-4387-9531-20DD1CD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EA08-7B76-4A0D-8360-A4C28D0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921C-4DA2-4236-BAA2-84891878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90D6-DEA7-4263-9532-0BB17651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632-ADE2-4620-828B-111B9D7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FF7-E76B-4A76-BAC9-AB03F488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2423-E197-40D8-BB51-5787B2D0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F8EB-6B60-4AB8-887E-145F7C67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A3B9-2EAC-4882-8379-090F53E6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B072-97B4-4EC4-B0CE-E7697A95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4544-CE84-4A86-BD3C-ED99420A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6A3-AF6E-4205-BDB4-53560588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813-F04B-423C-B436-0870FC0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8FE-7A2C-452B-B3F8-5E02ED28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668-F855-4D8D-9BD8-47D767BD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96F-9E38-4162-95B6-A96F3E5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1AB-3FD4-41CD-8A70-F0553D9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6B0-1DFD-4DAF-B924-12715DB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D32-E763-4098-89FD-7F9C8838CEED}" type="slidenum">
              <a:rPr b="0" lang="de-D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6348-9C45-435E-AD1A-47B70BB14EE4}" type="slidenum">
              <a:rPr b="0" lang="de-D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Schloss Lednice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 - </a:t>
            </a: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Interi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chloss Lednice ist von prachtvollen Interieuren bedeut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600200"/>
            <a:ext cx="33530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ingangsha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itters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Biblioth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Eingangshal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658960" cy="373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3809880" cy="2833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5 Meter ho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ominiert ein riesiger Kronleuch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Bildnisse Herren zu Liechtenste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Rittersa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304776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nthält mehrere Ritterrüs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36 Kilogramm sch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53 Zentimeter gro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88620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Biblioth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 einer handgeschnitzten Eichentrep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otive 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Bukolik der südmährischen Landschaf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inblä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raub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b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111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elegenhei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m Rel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 Ausflü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m Urlau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s ist einfach ein Paradies auf E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Wir freuen uns auf Ihren Be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6633"/>
                </a:solidFill>
                <a:latin typeface="Garamond"/>
              </a:rPr>
              <a:t>Lednice</a:t>
            </a:r>
            <a:r>
              <a:rPr b="1" lang="de-DE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de-DE" sz="5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de-DE" sz="5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de-DE" sz="5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de-DE" sz="5400" spc="-1" strike="noStrike">
                <a:solidFill>
                  <a:srgbClr val="006633"/>
                </a:solidFill>
                <a:latin typeface="Garamond"/>
              </a:rPr>
              <a:t>Eisgrub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6553440" cy="39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191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e Gemeinde im Südmäh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ahlreiche Sehenswürdigkei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it 1993 in der Liste des UNESCO-Welterb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14800" cy="2657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8128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Kulturlandschaft Lednice-Valt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nův hrad – Johannesbu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ři  Gracie – Drei Gra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ybniční zámeček – Teichsch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ppolonův chrám – Apollo-Temp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inaret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Glasha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Johannesbur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733920" cy="284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m Stil einer mittelalterlichen Ru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rüher Jagdsch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ute gibt es hier eine Jagd- und Vögelveranstaltung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Tempel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er </a:t>
            </a: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drei Grazi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rundriss aus Halbkre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er Statue von drei antiken Götti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64356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343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Teichschloss</a:t>
            </a: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Apollo-Temp</a:t>
            </a: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733560" cy="315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30236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Minaret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ehört zu den höchsten Gebäu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60 Meter ho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302 Stuf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egt am Schla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37972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Glasha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st ein Paradies auf E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92 Meter l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20 Meter ho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429000" cy="298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572000" cy="2567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81480" y="3429000"/>
            <a:ext cx="3429000" cy="255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2:48:31Z</dcterms:created>
  <dc:creator>tomik-d.c</dc:creator>
  <dc:description/>
  <dc:language>en-US</dc:language>
  <cp:lastModifiedBy>zuzka</cp:lastModifiedBy>
  <dcterms:modified xsi:type="dcterms:W3CDTF">2010-03-25T06:56:1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