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29.png" ContentType="image/png"/>
  <Override PartName="/ppt/media/image27.png" ContentType="image/png"/>
  <Override PartName="/ppt/media/image26.jpeg" ContentType="image/jpeg"/>
  <Override PartName="/ppt/media/image24.png" ContentType="image/png"/>
  <Override PartName="/ppt/media/image23.jpeg" ContentType="image/jpeg"/>
  <Override PartName="/ppt/media/image21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6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3669-C613-4534-9985-9DA0A11E2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E735-9593-4DC3-BB16-35BFC310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ED0D-623F-4FB9-8067-5DC8AD68A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6F1C-C073-4A85-B4ED-35B619D3D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6601-0F60-4112-840F-0B0FA69C3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88CF-E6BD-40D5-849F-0AFA0971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E26A-479C-49AA-B8CA-233DF7CD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5AE0-4CFB-4659-AA1C-FA787779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C7BB-0D6B-4391-954E-A5594A03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41E3-73DA-4C3B-AA43-0528FDE5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CB96-C1AE-479E-A2FF-8E2C9A1F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8C3B-4D2C-4C22-86A4-F42E1036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EC78-7A6C-4F1C-8459-9B4F4F6E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8ADE-B846-4216-AC25-FA9CBCB1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3DBC-9120-4259-8E3B-FAAC0AED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AC5B-3C6D-4914-9A85-5AE9CDBAF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7FAC-BBC6-4D5A-9AAB-A96EED0F5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FCC6-9B27-49C0-A4A7-FE1FF009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35BF-0344-4905-BBAC-054605E7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FCC6-64CE-439C-BC52-19107C47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4FE1-793E-445F-9692-2A373987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F127-ED71-4B91-8D7D-BF991EA6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61CC-B08D-4DC5-B885-C91EF06C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F25A-29FC-4114-9082-EA500BFE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7C05-0EF9-4745-874C-2371F69BEC37}" type="slidenum">
              <a:rPr b="0" lang="cs-CZ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52B9-9BEA-4627-BC5C-756F8B667AF5}" type="slidenum">
              <a:rPr b="0" lang="cs-CZ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Nadpis 1" descr=""/>
          <p:cNvPicPr/>
          <p:nvPr/>
        </p:nvPicPr>
        <p:blipFill>
          <a:blip r:embed="rId1"/>
          <a:stretch/>
        </p:blipFill>
        <p:spPr>
          <a:xfrm>
            <a:off x="353880" y="1779480"/>
            <a:ext cx="8302680" cy="265284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3" descr="telc.jpg"/>
          <p:cNvPicPr/>
          <p:nvPr/>
        </p:nvPicPr>
        <p:blipFill>
          <a:blip r:embed="rId2"/>
          <a:stretch/>
        </p:blipFill>
        <p:spPr>
          <a:xfrm>
            <a:off x="357120" y="571680"/>
            <a:ext cx="3076560" cy="216828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4" descr="th_Telc06_12.jpg"/>
          <p:cNvPicPr/>
          <p:nvPr/>
        </p:nvPicPr>
        <p:blipFill>
          <a:blip r:embed="rId3"/>
          <a:stretch/>
        </p:blipFill>
        <p:spPr>
          <a:xfrm>
            <a:off x="243000" y="4286160"/>
            <a:ext cx="3257280" cy="231768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5" descr="Bez názvu.bmp"/>
          <p:cNvPicPr/>
          <p:nvPr/>
        </p:nvPicPr>
        <p:blipFill>
          <a:blip r:embed="rId4"/>
          <a:stretch/>
        </p:blipFill>
        <p:spPr>
          <a:xfrm>
            <a:off x="5072040" y="4286160"/>
            <a:ext cx="3838680" cy="228600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6" descr="telc-domy.jpg"/>
          <p:cNvPicPr/>
          <p:nvPr/>
        </p:nvPicPr>
        <p:blipFill>
          <a:blip r:embed="rId5"/>
          <a:stretch/>
        </p:blipFill>
        <p:spPr>
          <a:xfrm>
            <a:off x="5214960" y="571680"/>
            <a:ext cx="3592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Nadpis 1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42560" cy="12556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714920" y="1499760"/>
            <a:ext cx="4114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Im 14. Jahrhundert gebau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Einflüsse von italienischer Kultu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Ursprüngliches Aussehen erhalt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Goldener Saal, Speisesaal, Schatzkamm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4" name="Obrázek 5" descr="GLU337dea_zamek.jpg"/>
          <p:cNvPicPr/>
          <p:nvPr/>
        </p:nvPicPr>
        <p:blipFill>
          <a:blip r:embed="rId2"/>
          <a:stretch/>
        </p:blipFill>
        <p:spPr>
          <a:xfrm>
            <a:off x="571680" y="4071960"/>
            <a:ext cx="3806640" cy="2523960"/>
          </a:xfrm>
          <a:prstGeom prst="rect">
            <a:avLst/>
          </a:prstGeom>
          <a:ln w="0">
            <a:noFill/>
          </a:ln>
        </p:spPr>
      </p:pic>
      <p:pic>
        <p:nvPicPr>
          <p:cNvPr id="115" name="Obrázek 6" descr="zamek-telc.jpg"/>
          <p:cNvPicPr/>
          <p:nvPr/>
        </p:nvPicPr>
        <p:blipFill>
          <a:blip r:embed="rId3"/>
          <a:stretch/>
        </p:blipFill>
        <p:spPr>
          <a:xfrm>
            <a:off x="857160" y="1428840"/>
            <a:ext cx="32148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Nadpis 1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42560" cy="1255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28760" y="1714320"/>
            <a:ext cx="3828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Decke - 30 achtseitiger Deckenkassetten mit figuraler Holzschnitzereien 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Portraits von Schlossbesitzer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8" name="Obrázek 3" descr="zlaty-sal_zamek.jpg"/>
          <p:cNvPicPr/>
          <p:nvPr/>
        </p:nvPicPr>
        <p:blipFill>
          <a:blip r:embed="rId2"/>
          <a:stretch/>
        </p:blipFill>
        <p:spPr>
          <a:xfrm>
            <a:off x="4714920" y="1428840"/>
            <a:ext cx="346068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Nadpis 3" descr=""/>
          <p:cNvPicPr/>
          <p:nvPr/>
        </p:nvPicPr>
        <p:blipFill>
          <a:blip r:embed="rId1"/>
          <a:stretch/>
        </p:blipFill>
        <p:spPr>
          <a:xfrm>
            <a:off x="42840" y="1920960"/>
            <a:ext cx="938700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Nadpis 1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42560" cy="1255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357120" y="12855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Basisinformationen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Geschicht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Denkmäl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Heilig – Geist - Kirch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Brunn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Mariensäu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Pfarrkirche St. Jakob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Heilig – Geist - Tur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Schlos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Goldener Saa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9" name="Obrázek 4" descr="Telc_znak.png"/>
          <p:cNvPicPr/>
          <p:nvPr/>
        </p:nvPicPr>
        <p:blipFill>
          <a:blip r:embed="rId2"/>
          <a:stretch/>
        </p:blipFill>
        <p:spPr>
          <a:xfrm>
            <a:off x="4786200" y="2857680"/>
            <a:ext cx="381168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Nadpis 1" descr=""/>
          <p:cNvPicPr/>
          <p:nvPr/>
        </p:nvPicPr>
        <p:blipFill>
          <a:blip r:embed="rId1"/>
          <a:stretch/>
        </p:blipFill>
        <p:spPr>
          <a:xfrm>
            <a:off x="420840" y="19080"/>
            <a:ext cx="8242200" cy="1888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00040" y="2143080"/>
            <a:ext cx="822960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liegt in der Böhmisch – Mährischen Höh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mehr als 5. 000 Einwohn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seit 1992 UNESCO - Welterb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Nadpis 1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42560" cy="1255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1315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–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erste Erwähnung in schriftlichen Quell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1414 – Gründung des Spita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1852 – Gründung der ersten Schu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Nadpis 1" descr=""/>
          <p:cNvPicPr/>
          <p:nvPr/>
        </p:nvPicPr>
        <p:blipFill>
          <a:blip r:embed="rId1"/>
          <a:stretch/>
        </p:blipFill>
        <p:spPr>
          <a:xfrm>
            <a:off x="390600" y="171360"/>
            <a:ext cx="8478720" cy="1255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6840" y="1599840"/>
            <a:ext cx="3971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Älteste Kirche in Teltsc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Romanischer Sti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15. Jh. – in die Gotik umgebau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Heute gehört der evangelischen Kirch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6" name="Obrázek 4" descr="kostel2.jpg"/>
          <p:cNvPicPr/>
          <p:nvPr/>
        </p:nvPicPr>
        <p:blipFill>
          <a:blip r:embed="rId2"/>
          <a:stretch/>
        </p:blipFill>
        <p:spPr>
          <a:xfrm>
            <a:off x="4786200" y="1571760"/>
            <a:ext cx="33577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Nadpis 1" descr=""/>
          <p:cNvPicPr/>
          <p:nvPr/>
        </p:nvPicPr>
        <p:blipFill>
          <a:blip r:embed="rId1"/>
          <a:stretch/>
        </p:blipFill>
        <p:spPr>
          <a:xfrm>
            <a:off x="450720" y="-139680"/>
            <a:ext cx="8242560" cy="1889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071960" y="1499760"/>
            <a:ext cx="4829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Unterer Brunnen mit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Hl. Gretchenstatue, aus Holz gemach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Oberer Brunnen, Statue von Silen mit kleinem Dionyso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9" name="Obrázek 3" descr="kasna1.jpg"/>
          <p:cNvPicPr/>
          <p:nvPr/>
        </p:nvPicPr>
        <p:blipFill>
          <a:blip r:embed="rId2"/>
          <a:stretch/>
        </p:blipFill>
        <p:spPr>
          <a:xfrm>
            <a:off x="1857240" y="1428840"/>
            <a:ext cx="2133720" cy="2857320"/>
          </a:xfrm>
          <a:prstGeom prst="rect">
            <a:avLst/>
          </a:prstGeom>
          <a:ln w="0">
            <a:noFill/>
          </a:ln>
        </p:spPr>
      </p:pic>
      <p:pic>
        <p:nvPicPr>
          <p:cNvPr id="100" name="Obrázek 4" descr="kasna2.jpg"/>
          <p:cNvPicPr/>
          <p:nvPr/>
        </p:nvPicPr>
        <p:blipFill>
          <a:blip r:embed="rId3"/>
          <a:stretch/>
        </p:blipFill>
        <p:spPr>
          <a:xfrm>
            <a:off x="214200" y="3500280"/>
            <a:ext cx="2286000" cy="30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Nadpis 1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42560" cy="1255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28400" y="1785600"/>
            <a:ext cx="43290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In Jahren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1716-1720 gebau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Bildhauer David Lipart von Brtni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Auf dem Sockel Statue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n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von Heiligen, auf der Spitze eine Madonn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3" name="Obrázek 4" descr="sloup2.jpg"/>
          <p:cNvPicPr/>
          <p:nvPr/>
        </p:nvPicPr>
        <p:blipFill>
          <a:blip r:embed="rId2"/>
          <a:stretch/>
        </p:blipFill>
        <p:spPr>
          <a:xfrm>
            <a:off x="5000760" y="1571760"/>
            <a:ext cx="32382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Nadpis 1" descr=""/>
          <p:cNvPicPr/>
          <p:nvPr/>
        </p:nvPicPr>
        <p:blipFill>
          <a:blip r:embed="rId1"/>
          <a:stretch/>
        </p:blipFill>
        <p:spPr>
          <a:xfrm>
            <a:off x="378000" y="171360"/>
            <a:ext cx="8503920" cy="1255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071600" y="1642680"/>
            <a:ext cx="45435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Im 14. Jahrhundert gebau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Pseudogotischer Altar aus dem Jahre 1879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Originale Barockorgel aus dem Jahre 1725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6" name="Obrázek 3" descr="kostel.jpg"/>
          <p:cNvPicPr/>
          <p:nvPr/>
        </p:nvPicPr>
        <p:blipFill>
          <a:blip r:embed="rId2"/>
          <a:stretch/>
        </p:blipFill>
        <p:spPr>
          <a:xfrm>
            <a:off x="714240" y="1571760"/>
            <a:ext cx="2857680" cy="213336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4" descr="kostel2.jpg"/>
          <p:cNvPicPr/>
          <p:nvPr/>
        </p:nvPicPr>
        <p:blipFill>
          <a:blip r:embed="rId3"/>
          <a:stretch/>
        </p:blipFill>
        <p:spPr>
          <a:xfrm>
            <a:off x="1143000" y="3857760"/>
            <a:ext cx="207180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Nadpis 1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59840" cy="12556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40435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Romanischer Sti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Aus dem 13. Jh.,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49 m hoc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ausgebran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0" name="Obrázek 4" descr="věž2.JPG"/>
          <p:cNvPicPr/>
          <p:nvPr/>
        </p:nvPicPr>
        <p:blipFill>
          <a:blip r:embed="rId2"/>
          <a:stretch/>
        </p:blipFill>
        <p:spPr>
          <a:xfrm>
            <a:off x="4357800" y="1500120"/>
            <a:ext cx="2732040" cy="3643560"/>
          </a:xfrm>
          <a:prstGeom prst="rect">
            <a:avLst/>
          </a:prstGeom>
          <a:ln w="0">
            <a:noFill/>
          </a:ln>
        </p:spPr>
      </p:pic>
      <p:pic>
        <p:nvPicPr>
          <p:cNvPr id="111" name="Obrázek 5" descr="věž3.jpg"/>
          <p:cNvPicPr/>
          <p:nvPr/>
        </p:nvPicPr>
        <p:blipFill>
          <a:blip r:embed="rId3"/>
          <a:stretch/>
        </p:blipFill>
        <p:spPr>
          <a:xfrm>
            <a:off x="6572160" y="3429000"/>
            <a:ext cx="22939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09:44:38Z</dcterms:created>
  <dc:creator>Grebikova</dc:creator>
  <dc:description/>
  <dc:language>en-US</dc:language>
  <cp:lastModifiedBy>Windows User</cp:lastModifiedBy>
  <dcterms:modified xsi:type="dcterms:W3CDTF">2011-02-28T20:10:14Z</dcterms:modified>
  <cp:revision>31</cp:revision>
  <dc:subject/>
  <dc:title>Telč </dc:title>
</cp:coreProperties>
</file>