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465-7846-4BDA-9EC1-3E9DA648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FC1-52EC-4922-9F94-A9A64C29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0D3-1C53-40BA-9B6E-CF79085B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D79-C338-4DC3-BCAA-9B1C3D76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1C8-1E03-4177-8A0F-8BB274F0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AD9-07D9-4EBA-927A-763EB5C9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9DC-6FD5-4B0E-BAF0-0BA80782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EEA-669A-42A2-B93D-888F5068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416-679D-4374-A53A-541FA5C9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657-174A-42DD-8819-639F001C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662-406A-4BA2-9171-6C8F792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149-CB2C-42CC-BC44-CAEE8277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5EF7-9A26-476F-BA26-EC07D74F8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řebí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Rabbin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ckstil ist hier von Gewöl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bbiners Wohnung und Bü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Rabinát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Vordere Synagog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te Sch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dengewöl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14 Plätze für Männer im Saal und 80 Plätze für Frau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Přední synagoga"/>
          <p:cNvPicPr/>
          <p:nvPr/>
        </p:nvPicPr>
        <p:blipFill>
          <a:blip r:embed="rId3"/>
          <a:stretch/>
        </p:blipFill>
        <p:spPr>
          <a:xfrm>
            <a:off x="4648320" y="1523880"/>
            <a:ext cx="42764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Hintere Synagoge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rauengal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e Renov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andgemäl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Zadní synagoga - exteriér"/>
          <p:cNvPicPr/>
          <p:nvPr/>
        </p:nvPicPr>
        <p:blipFill>
          <a:blip r:embed="rId3"/>
          <a:stretch/>
        </p:blipFill>
        <p:spPr>
          <a:xfrm>
            <a:off x="4648320" y="1523880"/>
            <a:ext cx="408924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Zadní synagoga - hlavní sál"/>
          <p:cNvPicPr/>
          <p:nvPr/>
        </p:nvPicPr>
        <p:blipFill>
          <a:blip r:embed="rId4"/>
          <a:stretch/>
        </p:blipFill>
        <p:spPr>
          <a:xfrm>
            <a:off x="4648320" y="3962520"/>
            <a:ext cx="41241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Armenha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izierter Grundr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ckstil geb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hudobinec"/>
          <p:cNvPicPr/>
          <p:nvPr/>
        </p:nvPicPr>
        <p:blipFill>
          <a:blip r:embed="rId3"/>
          <a:stretch/>
        </p:blipFill>
        <p:spPr>
          <a:xfrm>
            <a:off x="4648320" y="1523880"/>
            <a:ext cx="42670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Krankenha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do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rnste Einrich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Nemocnice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Jüdischer Friedhof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sicht des Jüdischen Viertels und Vor dem Jüdischen Friedh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s zum Hradek-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f die ganze 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gen vor dem Friedhofstor 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Pohled na židovskou čtvrť"/>
          <p:cNvPicPr/>
          <p:nvPr/>
        </p:nvPicPr>
        <p:blipFill>
          <a:blip r:embed="rId3"/>
          <a:stretch/>
        </p:blipFill>
        <p:spPr>
          <a:xfrm>
            <a:off x="4648320" y="1600200"/>
            <a:ext cx="4127400" cy="216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Před židovským hřbitovem"/>
          <p:cNvPicPr/>
          <p:nvPr/>
        </p:nvPicPr>
        <p:blipFill>
          <a:blip r:embed="rId4"/>
          <a:stretch/>
        </p:blipFill>
        <p:spPr>
          <a:xfrm>
            <a:off x="4648320" y="3962520"/>
            <a:ext cx="4105080" cy="2698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Trauerhalle und Exterieu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ingang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deu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aschschüssel aus Porzellan, das sogenante K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Quadrat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siven Steinma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riedhöfe in Mäh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Obřadní síň"/>
          <p:cNvPicPr/>
          <p:nvPr/>
        </p:nvPicPr>
        <p:blipFill>
          <a:blip r:embed="rId3"/>
          <a:stretch/>
        </p:blipFill>
        <p:spPr>
          <a:xfrm>
            <a:off x="4648320" y="1600200"/>
            <a:ext cx="4190760" cy="2209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Exteriér"/>
          <p:cNvPicPr/>
          <p:nvPr/>
        </p:nvPicPr>
        <p:blipFill>
          <a:blip r:embed="rId4"/>
          <a:stretch/>
        </p:blipFill>
        <p:spPr>
          <a:xfrm>
            <a:off x="4648320" y="3962520"/>
            <a:ext cx="42307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Wir danken fur Ihre Aufmerkseimkei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řebíč auf der Karte der Tschechischen Republi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řebíč na mapce České republiky"/>
          <p:cNvPicPr/>
          <p:nvPr/>
        </p:nvPicPr>
        <p:blipFill>
          <a:blip r:embed="rId2"/>
          <a:stretch/>
        </p:blipFill>
        <p:spPr>
          <a:xfrm>
            <a:off x="380880" y="1584360"/>
            <a:ext cx="8458200" cy="4892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eg von der Basilika zum Jüdischen Viert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Letecký snímek"/>
          <p:cNvPicPr/>
          <p:nvPr/>
        </p:nvPicPr>
        <p:blipFill>
          <a:blip r:embed="rId2"/>
          <a:stretch/>
        </p:blipFill>
        <p:spPr>
          <a:xfrm>
            <a:off x="457200" y="1600200"/>
            <a:ext cx="8238960" cy="495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1295280" y="4647960"/>
            <a:ext cx="15264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648320"/>
            <a:ext cx="914400" cy="75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4800600"/>
            <a:ext cx="1295280" cy="1143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371600" y="4647960"/>
            <a:ext cx="152280" cy="75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724280"/>
            <a:ext cx="76320" cy="763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6483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15000">
            <a:off x="3428640" y="5638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4648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380200">
            <a:off x="2819160" y="5105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.-Prokop-Basil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 Abteikir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3. Jahrhunde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il der 1101 gegründ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 im romanischen Stil mit gotischen Elemen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Bazilika sv. Prokopa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Bazilika sv. Prokopa - západní průčelí s věžemi"/>
          <p:cNvPicPr/>
          <p:nvPr/>
        </p:nvPicPr>
        <p:blipFill>
          <a:blip r:embed="rId1"/>
          <a:stretch/>
        </p:blipFill>
        <p:spPr>
          <a:xfrm>
            <a:off x="762120" y="0"/>
            <a:ext cx="3438360" cy="3481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Bazilika sv. Prokopa - východní závěr baziliky"/>
          <p:cNvPicPr/>
          <p:nvPr/>
        </p:nvPicPr>
        <p:blipFill>
          <a:blip r:embed="rId3"/>
          <a:stretch/>
        </p:blipFill>
        <p:spPr>
          <a:xfrm>
            <a:off x="4724280" y="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Bazilika sv. Prokopa - chrámová předsíň s portálem"/>
          <p:cNvPicPr/>
          <p:nvPr/>
        </p:nvPicPr>
        <p:blipFill>
          <a:blip r:embed="rId4"/>
          <a:stretch/>
        </p:blipFill>
        <p:spPr>
          <a:xfrm>
            <a:off x="228600" y="3711600"/>
            <a:ext cx="4191120" cy="2975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Bazilika sv. Prokopa - interiér"/>
          <p:cNvPicPr/>
          <p:nvPr/>
        </p:nvPicPr>
        <p:blipFill>
          <a:blip r:embed="rId5"/>
          <a:stretch/>
        </p:blipFill>
        <p:spPr>
          <a:xfrm>
            <a:off x="4724280" y="3581280"/>
            <a:ext cx="4191120" cy="31021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ryp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 weiträumige romanische Kryp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0 Säulen und Wandsäu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 mittelalterliche Atmosphär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Bazilika sv. Prokopa - krypta"/>
          <p:cNvPicPr/>
          <p:nvPr/>
        </p:nvPicPr>
        <p:blipFill>
          <a:blip r:embed="rId3"/>
          <a:stretch/>
        </p:blipFill>
        <p:spPr>
          <a:xfrm>
            <a:off x="4648320" y="4114800"/>
            <a:ext cx="403200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Bazilika sv. Prokopa - krypta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Jüdisches Viertel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Haus in der Straße Leopolda Pokorneho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in denkmalgeschützes 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llte auch ein Tor 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s das Ghetto von der christlichen Gemeinde tren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Dům v ulici Leopolda Pokorného čp. 2"/>
          <p:cNvPicPr/>
          <p:nvPr/>
        </p:nvPicPr>
        <p:blipFill>
          <a:blip r:embed="rId3"/>
          <a:stretch/>
        </p:blipFill>
        <p:spPr>
          <a:xfrm>
            <a:off x="4572000" y="1600200"/>
            <a:ext cx="419112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Dům v ulici Leopolda Pokorného čp. 5"/>
          <p:cNvPicPr/>
          <p:nvPr/>
        </p:nvPicPr>
        <p:blipFill>
          <a:blip r:embed="rId4"/>
          <a:stretch/>
        </p:blipFill>
        <p:spPr>
          <a:xfrm>
            <a:off x="4648320" y="4038480"/>
            <a:ext cx="4203720" cy="26402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ha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rwaltungszentrum der politisch unabhäng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nnengewölbe mit Lün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Radnice"/>
          <p:cNvPicPr/>
          <p:nvPr/>
        </p:nvPicPr>
        <p:blipFill>
          <a:blip r:embed="rId3"/>
          <a:stretch/>
        </p:blipFill>
        <p:spPr>
          <a:xfrm>
            <a:off x="4648320" y="1447920"/>
            <a:ext cx="411480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im Eisner</cp:lastModifiedBy>
  <dcterms:modified xsi:type="dcterms:W3CDTF">2010-03-02T16:12:0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