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FE3-D6BD-4551-B337-A69EBF9E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B08-9052-4904-94C2-D2167D20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2AB-5391-4E31-B6E7-EA7BD642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884-1CBE-41AA-A01C-F53592ED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1B7-2DCA-4930-8F72-79D24EC0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168-6562-4C20-8617-ABD0454A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BFA5-0BBF-4336-B581-684AF4AA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74F-9F61-4D6B-B588-A9A606BC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AA6-B95E-4B33-AC59-5AB42EEF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0FB-860D-4486-A2BF-8E53E0F0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502-5193-4274-90D1-8CB2613E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D23-C38E-4DCF-A35F-43286EF5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6801AC-660F-45CE-BB27-09CA0C76BD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esto-kromeriz.cz/" TargetMode="External"/><Relationship Id="rId2" Type="http://schemas.openxmlformats.org/officeDocument/2006/relationships/hyperlink" Target="http://www.kromeriz.cz/" TargetMode="Externa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0960" y="282240"/>
            <a:ext cx="860904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Kroměříž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720720" y="2340000"/>
            <a:ext cx="86090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Kremsi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0960" y="3957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Kromiery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271680" y="6116760"/>
            <a:ext cx="86090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000" spc="-1" strike="noStrike">
                <a:solidFill>
                  <a:srgbClr val="ff9966"/>
                </a:solidFill>
                <a:latin typeface="Arial"/>
              </a:rPr>
              <a:t>Blokešová, Drastíková, Bouda, Hruš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5" descr="file:///C:/Users/joe/Desktop/405px-CZE_Kroměříž_COA.svg.png"/>
          <p:cNvPicPr/>
          <p:nvPr/>
        </p:nvPicPr>
        <p:blipFill>
          <a:blip r:embed=""/>
          <a:stretch/>
        </p:blipFill>
        <p:spPr>
          <a:xfrm>
            <a:off x="5040360" y="900000"/>
            <a:ext cx="3600360" cy="450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G:\Kroměříž\405px-CZE_Kroměříž_COA.svg.png"/>
          <p:cNvPicPr/>
          <p:nvPr/>
        </p:nvPicPr>
        <p:blipFill>
          <a:blip r:embed="rId1"/>
          <a:stretch/>
        </p:blipFill>
        <p:spPr>
          <a:xfrm>
            <a:off x="4824360" y="826920"/>
            <a:ext cx="385776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768680" y="360000"/>
            <a:ext cx="860868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Bibliothek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81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Sie gehört zu den wertvollsten historischen 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Bibliotheken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 in der Č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13" name="Picture 3" descr="file:///C:/Users/joe/Desktop/s1.jpg"/>
          <p:cNvPicPr/>
          <p:nvPr/>
        </p:nvPicPr>
        <p:blipFill>
          <a:blip r:embed=""/>
          <a:stretch/>
        </p:blipFill>
        <p:spPr>
          <a:xfrm>
            <a:off x="4859280" y="539640"/>
            <a:ext cx="4500720" cy="612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G:\Kroměříž\s1.jpg"/>
          <p:cNvPicPr/>
          <p:nvPr/>
        </p:nvPicPr>
        <p:blipFill>
          <a:blip r:embed="rId1"/>
          <a:stretch/>
        </p:blipFill>
        <p:spPr>
          <a:xfrm>
            <a:off x="5111640" y="755640"/>
            <a:ext cx="403560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Blumen Garte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8880" y="1991880"/>
            <a:ext cx="4281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Gegründet 1665-1675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er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 erste Name des Gartens war Libosa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Die Italienischen Architekten entw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a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rfen das Gart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Es waren Philibert Luchese und Giovanni Pietro Tencall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17" name="Picture 3" descr="file:///C:/Users/joe/Desktop/kvetna4.jpg"/>
          <p:cNvPicPr/>
          <p:nvPr/>
        </p:nvPicPr>
        <p:blipFill>
          <a:blip r:embed=""/>
          <a:stretch/>
        </p:blipFill>
        <p:spPr>
          <a:xfrm>
            <a:off x="4859280" y="1963800"/>
            <a:ext cx="5040360" cy="4937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G:\Kroměříž\kvetna4.jpg"/>
          <p:cNvPicPr/>
          <p:nvPr/>
        </p:nvPicPr>
        <p:blipFill>
          <a:blip r:embed="rId1"/>
          <a:stretch/>
        </p:blipFill>
        <p:spPr>
          <a:xfrm>
            <a:off x="4896000" y="2556000"/>
            <a:ext cx="4978080" cy="37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Schlossgarte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088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Der Garten liegt zwischen dem Erzbischofspalast und de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m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 Fluss Morav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Die Fläche ist 47,1 h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Der Garten gab es schon in dem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15. Jahrhunder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1" name="Picture 3" descr="file:///C:/Users/joe/Desktop/CIMG1796.jpg"/>
          <p:cNvPicPr/>
          <p:nvPr/>
        </p:nvPicPr>
        <p:blipFill>
          <a:blip r:embed=""/>
          <a:stretch/>
        </p:blipFill>
        <p:spPr>
          <a:xfrm>
            <a:off x="5219640" y="2340000"/>
            <a:ext cx="4680000" cy="3600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G:\Kroměříž\CIMG1796.jpg"/>
          <p:cNvPicPr/>
          <p:nvPr/>
        </p:nvPicPr>
        <p:blipFill>
          <a:blip r:embed="rId1"/>
          <a:stretch/>
        </p:blipFill>
        <p:spPr>
          <a:xfrm>
            <a:off x="5256360" y="2411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720" y="36000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Kirche sv. Mořic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8880" y="1979280"/>
            <a:ext cx="4281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Ein der größten gotischen Bauten in Č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Erstellt von de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m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 Olmützer Bischof Bruno von Schauenbur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Bau fertiggestell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im Jahre 1265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35120" y="1963800"/>
            <a:ext cx="4281480" cy="4937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ile:///C:/Users/joe/Desktop/799px-Kroměříž,_Kostel_svatého_Mořice,_jih.jpg"/>
          <p:cNvPicPr/>
          <p:nvPr/>
        </p:nvPicPr>
        <p:blipFill>
          <a:blip r:embed=""/>
          <a:stretch/>
        </p:blipFill>
        <p:spPr>
          <a:xfrm>
            <a:off x="3780000" y="2160720"/>
            <a:ext cx="6300720" cy="4319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G:\Kroměříž\799px-Kroměříž,_Kostel_svatého_Mořice,_jih.jpg"/>
          <p:cNvPicPr/>
          <p:nvPr/>
        </p:nvPicPr>
        <p:blipFill>
          <a:blip r:embed="rId2"/>
          <a:stretch/>
        </p:blipFill>
        <p:spPr>
          <a:xfrm>
            <a:off x="4103640" y="1979640"/>
            <a:ext cx="575460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Kirche </a:t>
            </a:r>
            <a:r>
              <a:rPr b="1" i="1" lang="cs-CZ" sz="4000" spc="-1" strike="noStrike">
                <a:solidFill>
                  <a:srgbClr val="ff9966"/>
                </a:solidFill>
                <a:latin typeface="Arial"/>
              </a:rPr>
              <a:t>Maria Himmelfahr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81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Die Kirche wurde 1247  von dem Bischof Bruno von Schauenburg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 gebau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Diese Kirche wurde von den Schweden im Jahr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e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 1643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 besetz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Renoviert im Jahre 1724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35120" y="1963800"/>
            <a:ext cx="4281480" cy="4937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file:///C:/Users/joe/Desktop/435px-Kostel_Panny_Marie_(Kroměříž).jpg"/>
          <p:cNvPicPr/>
          <p:nvPr/>
        </p:nvPicPr>
        <p:blipFill>
          <a:blip r:embed=""/>
          <a:stretch/>
        </p:blipFill>
        <p:spPr>
          <a:xfrm>
            <a:off x="5219640" y="1440000"/>
            <a:ext cx="4575240" cy="558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G:\Kroměříž\435px-Kostel_Panny_Marie_(Kroměříž).jpg"/>
          <p:cNvPicPr/>
          <p:nvPr/>
        </p:nvPicPr>
        <p:blipFill>
          <a:blip r:embed="rId2"/>
          <a:stretch/>
        </p:blipFill>
        <p:spPr>
          <a:xfrm>
            <a:off x="5545080" y="1547640"/>
            <a:ext cx="3888000" cy="53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90960" y="35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Links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04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mesto-kromeriz.cz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04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kromeriz.cz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1979280"/>
            <a:ext cx="8609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61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7000" spc="-1" strike="noStrike">
                <a:solidFill>
                  <a:srgbClr val="ff9966"/>
                </a:solidFill>
                <a:latin typeface="Arial"/>
              </a:rPr>
              <a:t>Fragen ? </a:t>
            </a:r>
            <a:endParaRPr b="1" i="1" lang="en-US" sz="7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36" name="Picture 2" descr="file:///C:/Users/joe/Desktop/questionmark.jpg"/>
          <p:cNvPicPr/>
          <p:nvPr/>
        </p:nvPicPr>
        <p:blipFill>
          <a:blip r:embed=""/>
          <a:stretch/>
        </p:blipFill>
        <p:spPr>
          <a:xfrm>
            <a:off x="6138720" y="3498840"/>
            <a:ext cx="3581640" cy="3162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G:\Kroměříž\questionmark.jpg"/>
          <p:cNvPicPr/>
          <p:nvPr/>
        </p:nvPicPr>
        <p:blipFill>
          <a:blip r:embed="rId1"/>
          <a:stretch/>
        </p:blipFill>
        <p:spPr>
          <a:xfrm>
            <a:off x="6119640" y="3492360"/>
            <a:ext cx="3581640" cy="31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20720" y="35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Vielen Dank für Ihre Aufmerksamkei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39" name="Picture 2" descr="file:///C:/Users/joe/Desktop/small_smajlici.jpg.jpg"/>
          <p:cNvPicPr/>
          <p:nvPr/>
        </p:nvPicPr>
        <p:blipFill>
          <a:blip r:embed=""/>
          <a:stretch/>
        </p:blipFill>
        <p:spPr>
          <a:xfrm>
            <a:off x="3060720" y="2160720"/>
            <a:ext cx="4319640" cy="3779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G:\Kroměříž\small_smajlici.jpg.jpg"/>
          <p:cNvPicPr/>
          <p:nvPr/>
        </p:nvPicPr>
        <p:blipFill>
          <a:blip r:embed="rId1"/>
          <a:stretch/>
        </p:blipFill>
        <p:spPr>
          <a:xfrm>
            <a:off x="3168720" y="2195640"/>
            <a:ext cx="4174920" cy="37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Inhal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Basisinformatione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Geschicht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Sehenswürdigkeit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Großer Platz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Erzbischofspalas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Blumen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g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art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Schlossgart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Kirche 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St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. M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oritz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Kirche 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Maria Himmelfahr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Basisinformatione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e6e6e6"/>
                </a:solidFill>
                <a:latin typeface="Times New Roman"/>
              </a:rPr>
              <a:t>Kremsier ist </a:t>
            </a:r>
            <a:r>
              <a:rPr b="0" lang="cs-CZ" sz="3600" spc="-1" strike="noStrike">
                <a:solidFill>
                  <a:srgbClr val="e6e6e6"/>
                </a:solidFill>
                <a:latin typeface="Times New Roman"/>
              </a:rPr>
              <a:t>ein</a:t>
            </a:r>
            <a:r>
              <a:rPr b="0" lang="de-DE" sz="3600" spc="-1" strike="noStrike">
                <a:solidFill>
                  <a:srgbClr val="e6e6e6"/>
                </a:solidFill>
                <a:latin typeface="Times New Roman"/>
              </a:rPr>
              <a:t>e Kreisstadt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e6e6e6"/>
                </a:solidFill>
                <a:latin typeface="Times New Roman"/>
              </a:rPr>
              <a:t>Es befindet sich auf dem Fluss Morava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e6e6e6"/>
                </a:solidFill>
                <a:latin typeface="Times New Roman"/>
              </a:rPr>
              <a:t>Hat etwa 30 000 Einwohner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e6e6e6"/>
                </a:solidFill>
                <a:latin typeface="Times New Roman"/>
              </a:rPr>
              <a:t>Im Jahre 1998 registrierte sich Kremsier auf die Welterbe-Liste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e6e6e6"/>
                </a:solidFill>
                <a:latin typeface="Times New Roman"/>
              </a:rPr>
              <a:t>Kremsier nennt sich “</a:t>
            </a:r>
            <a:r>
              <a:rPr b="0" i="1" lang="de-DE" sz="3600" spc="-1" strike="noStrike">
                <a:solidFill>
                  <a:srgbClr val="e6e6e6"/>
                </a:solidFill>
                <a:latin typeface="Times New Roman"/>
              </a:rPr>
              <a:t>Hanácké Athény</a:t>
            </a:r>
            <a:r>
              <a:rPr b="0" lang="de-DE" sz="3600" spc="-1" strike="noStrike">
                <a:solidFill>
                  <a:srgbClr val="e6e6e6"/>
                </a:solidFill>
                <a:latin typeface="Times New Roman"/>
              </a:rPr>
              <a:t>“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e6e6e6"/>
                </a:solidFill>
                <a:latin typeface="Times New Roman"/>
              </a:rPr>
              <a:t>Kremsier ist ein wichtiges Zentrum der Bildung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Geschicht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Die Stadt wurde von de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m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 Olmützer Bischof Bruno von Schauenburg 1260 gegründe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Bischöfe von Olmütz haben in Kremsier die Sommerresidenz gebau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Während des Dreißigjährigen Krieges litt die Stadt viel und dann 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kam 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noch die Pes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Sehenswürdigkeite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In den 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90.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 Jahren war das historische Stadtzentrum rekonstruier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Großer Platz mit Arkad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Erzbischofspalast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Blumen-und Schlossgart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Kirche 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St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. Mo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ritz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 und Kirche 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Maria Himmelfahr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720" y="8748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Großer Platz mit Arkade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7" name="Picture 3" descr="file:///C:/Users/joe/Desktop/800px-Náměstí_Kroměříž.JPG"/>
          <p:cNvPicPr/>
          <p:nvPr/>
        </p:nvPicPr>
        <p:blipFill>
          <a:blip r:embed=""/>
          <a:stretch/>
        </p:blipFill>
        <p:spPr>
          <a:xfrm>
            <a:off x="539640" y="1079640"/>
            <a:ext cx="9180720" cy="575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G:\Kroměříž\800px-Náměstí_Kroměříž.JPG"/>
          <p:cNvPicPr/>
          <p:nvPr/>
        </p:nvPicPr>
        <p:blipFill>
          <a:blip r:embed="rId1"/>
          <a:stretch/>
        </p:blipFill>
        <p:spPr>
          <a:xfrm>
            <a:off x="1295280" y="1116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Erzbischofspalas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088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Es ist ein der bedeutendsten Kulturdenkmale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r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m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 ganzen Mähr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Dominiert der historischen Stadt Kremsi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35120" y="1963800"/>
            <a:ext cx="4281480" cy="4937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file:///C:/Users/joe/Desktop/kromeriz_arcibiskupsky_palac.jpg"/>
          <p:cNvPicPr/>
          <p:nvPr/>
        </p:nvPicPr>
        <p:blipFill>
          <a:blip r:embed=""/>
          <a:stretch/>
        </p:blipFill>
        <p:spPr>
          <a:xfrm>
            <a:off x="5219640" y="1800360"/>
            <a:ext cx="4319640" cy="504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G:\Kroměříž\kromeriz_arcibiskupsky_palac.jpg"/>
          <p:cNvPicPr/>
          <p:nvPr/>
        </p:nvPicPr>
        <p:blipFill>
          <a:blip r:embed="rId2"/>
          <a:stretch/>
        </p:blipFill>
        <p:spPr>
          <a:xfrm>
            <a:off x="5472000" y="1763640"/>
            <a:ext cx="3810240" cy="51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Kongresshall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35120" y="1963800"/>
            <a:ext cx="4281480" cy="4937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720720" y="1260360"/>
            <a:ext cx="882000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ff9966"/>
                </a:solidFill>
                <a:latin typeface="Arial"/>
              </a:rPr>
              <a:t>Manx Hall</a:t>
            </a:r>
            <a:br>
              <a:rPr sz="4000"/>
            </a:b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81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04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Hier gab es die Gericht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04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Auch zum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e6e6e6"/>
                </a:solidFill>
                <a:latin typeface="Times New Roman"/>
              </a:rPr>
              <a:t>Manx Parlament 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verwende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9" name="Picture 3" descr="file:///C:/Users/joe/Desktop/b1.jpg"/>
          <p:cNvPicPr/>
          <p:nvPr/>
        </p:nvPicPr>
        <p:blipFill>
          <a:blip r:embed=""/>
          <a:stretch/>
        </p:blipFill>
        <p:spPr>
          <a:xfrm>
            <a:off x="5235480" y="1963800"/>
            <a:ext cx="4281480" cy="4937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G:\Kroměříž\b1.jpg"/>
          <p:cNvPicPr/>
          <p:nvPr/>
        </p:nvPicPr>
        <p:blipFill>
          <a:blip r:embed="rId1"/>
          <a:stretch/>
        </p:blipFill>
        <p:spPr>
          <a:xfrm>
            <a:off x="5256360" y="1187280"/>
            <a:ext cx="4246560" cy="568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krchnakova.libena</cp:lastModifiedBy>
  <dcterms:modified xsi:type="dcterms:W3CDTF">2010-09-16T11:57:58Z</dcterms:modified>
  <cp:revision>8</cp:revision>
  <dc:subject/>
  <dc:title>Kroměříž</dc:title>
</cp:coreProperties>
</file>