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3DF-0563-4C0E-B48B-E172511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C03-F3BE-461C-B04B-98E4D2F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F18-C3AF-44F9-A3CC-5F99F061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BDF-6905-4EF0-90BC-6ECED041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BC5-1D66-4296-AF3E-A3536CEE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221-E9CB-4975-9C02-DACD228F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DB3-587D-43CF-96BB-F107947F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2B4-AE47-470E-BC21-0BD565E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138-2C48-4DDD-AA06-8A9CEB72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DF5-C31D-42A9-84E4-90B6A28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E9C-E968-4D2E-9802-AADD04B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316-9771-4524-9732-23CDFAC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351-2E49-46D1-845B-B68A59D96A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5" descr="Obrázek1.jpg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öhmisch Krumau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ie Sehenswürdigkeite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20070107181347!KRUMMAU5"/>
          <p:cNvPicPr/>
          <p:nvPr/>
        </p:nvPicPr>
        <p:blipFill>
          <a:blip r:embed="rId2"/>
          <a:stretch/>
        </p:blipFill>
        <p:spPr>
          <a:xfrm>
            <a:off x="1476360" y="1413000"/>
            <a:ext cx="5545080" cy="417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476360" y="5661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unnen im Schlosspa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muzeum_voskovych_figurin"/>
          <p:cNvPicPr/>
          <p:nvPr/>
        </p:nvPicPr>
        <p:blipFill>
          <a:blip r:embed="rId2"/>
          <a:stretch/>
        </p:blipFill>
        <p:spPr>
          <a:xfrm>
            <a:off x="179280" y="1125360"/>
            <a:ext cx="5079960" cy="379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79280" y="501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chsfigurenmuse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8" descr="8181b"/>
          <p:cNvPicPr/>
          <p:nvPr/>
        </p:nvPicPr>
        <p:blipFill>
          <a:blip r:embed="rId3"/>
          <a:stretch/>
        </p:blipFill>
        <p:spPr>
          <a:xfrm>
            <a:off x="4716360" y="3213000"/>
            <a:ext cx="4175280" cy="3238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471636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ltermuseu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ie Sehenswürdigkeit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0ffaca95e3e5242ba1097ad8a9a6e95d1eff9"/>
          <p:cNvPicPr/>
          <p:nvPr/>
        </p:nvPicPr>
        <p:blipFill>
          <a:blip r:embed="rId2"/>
          <a:stretch/>
        </p:blipFill>
        <p:spPr>
          <a:xfrm>
            <a:off x="1042920" y="333360"/>
            <a:ext cx="6913800" cy="460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360" y="5229000"/>
            <a:ext cx="8820000" cy="17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ielfältiges Menü von Kulturveranstaltun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Ende und </a:t>
            </a:r>
            <a:r>
              <a:rPr b="1" lang="de-DE" sz="4000" spc="-1" strike="noStrike">
                <a:solidFill>
                  <a:srgbClr val="e5ffff"/>
                </a:solidFill>
                <a:latin typeface="Tahoma"/>
              </a:rPr>
              <a:t>Vielen Dank für Ihre Au</a:t>
            </a: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f</a:t>
            </a:r>
            <a:r>
              <a:rPr b="1" lang="de-DE" sz="4000" spc="-1" strike="noStrike">
                <a:solidFill>
                  <a:srgbClr val="e5ffff"/>
                </a:solidFill>
                <a:latin typeface="Tahoma"/>
              </a:rPr>
              <a:t>merksamkeit</a:t>
            </a: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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efindet sich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südlichsten Teil der Tschechischen Republ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t nicht besonders gro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4" descr="ead81fe8cfe9fda9e4c2093e17e4d0241f008"/>
          <p:cNvPicPr/>
          <p:nvPr/>
        </p:nvPicPr>
        <p:blipFill>
          <a:blip r:embed="rId2"/>
          <a:stretch/>
        </p:blipFill>
        <p:spPr>
          <a:xfrm>
            <a:off x="3564000" y="2781360"/>
            <a:ext cx="5327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 Jahre 1963 - Stadtdenkmalschutzgeb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 Jahre 1989 - nationales Denk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 Jahre 1992 – Weltkulturerbe UNES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7640" y="1628280"/>
            <a:ext cx="493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egt an der Mold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n einzigartiger Komplex der Verbau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er ursprüngliche Name  - Krumme A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Obrázek 2" descr="cesky_krumlov_let.jpg"/>
          <p:cNvPicPr/>
          <p:nvPr/>
        </p:nvPicPr>
        <p:blipFill>
          <a:blip r:embed="rId2"/>
          <a:stretch/>
        </p:blipFill>
        <p:spPr>
          <a:xfrm>
            <a:off x="5003640" y="1700280"/>
            <a:ext cx="38862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5ffff"/>
                </a:solidFill>
                <a:latin typeface="Tahoma"/>
              </a:rPr>
              <a:t>Staatliche</a:t>
            </a:r>
            <a:r>
              <a:rPr b="1" lang="cs-CZ" sz="4000" spc="-1" strike="noStrike">
                <a:solidFill>
                  <a:srgbClr val="e5ffff"/>
                </a:solidFill>
                <a:latin typeface="Tahoma"/>
              </a:rPr>
              <a:t> Burg und Schloß Böhmisch Kruma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111640" cy="3670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326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ázek 3" descr="Cesky_Krumlov.jpg"/>
          <p:cNvPicPr/>
          <p:nvPr/>
        </p:nvPicPr>
        <p:blipFill>
          <a:blip r:embed="rId2"/>
          <a:stretch/>
        </p:blipFill>
        <p:spPr>
          <a:xfrm>
            <a:off x="3643200" y="3143160"/>
            <a:ext cx="5238720" cy="349560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2" descr="CK.jpg"/>
          <p:cNvPicPr/>
          <p:nvPr/>
        </p:nvPicPr>
        <p:blipFill>
          <a:blip r:embed="rId3"/>
          <a:stretch/>
        </p:blipFill>
        <p:spPr>
          <a:xfrm>
            <a:off x="428760" y="214200"/>
            <a:ext cx="40640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4"/>
          <p:cNvPicPr/>
          <p:nvPr/>
        </p:nvPicPr>
        <p:blipFill>
          <a:blip r:embed="rId2"/>
          <a:stretch/>
        </p:blipFill>
        <p:spPr>
          <a:xfrm>
            <a:off x="179280" y="260280"/>
            <a:ext cx="5299200" cy="397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79280" y="443700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Schloss Böhmisch Krumau und Sgraffiti im Schlo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86728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telbrüc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907920"/>
            <a:ext cx="28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2" descr="Obrázek3.jpg"/>
          <p:cNvPicPr/>
          <p:nvPr/>
        </p:nvPicPr>
        <p:blipFill>
          <a:blip r:embed="rId2"/>
          <a:stretch/>
        </p:blipFill>
        <p:spPr>
          <a:xfrm>
            <a:off x="1042920" y="1268280"/>
            <a:ext cx="6985080" cy="5015160"/>
          </a:xfrm>
          <a:prstGeom prst="rect">
            <a:avLst/>
          </a:prstGeom>
          <a:ln w="0">
            <a:noFill/>
          </a:ln>
        </p:spPr>
      </p:pic>
      <p:sp>
        <p:nvSpPr>
          <p:cNvPr id="58" name="TextovéPole 3"/>
          <p:cNvSpPr/>
          <p:nvPr/>
        </p:nvSpPr>
        <p:spPr>
          <a:xfrm>
            <a:off x="0" y="18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Die Maskenhal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ázek 2" descr="Obrázek5.jpg"/>
          <p:cNvPicPr/>
          <p:nvPr/>
        </p:nvPicPr>
        <p:blipFill>
          <a:blip r:embed="rId2"/>
          <a:stretch/>
        </p:blipFill>
        <p:spPr>
          <a:xfrm>
            <a:off x="179280" y="189000"/>
            <a:ext cx="4310280" cy="384012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1" descr="Obrázek4.jpg"/>
          <p:cNvPicPr/>
          <p:nvPr/>
        </p:nvPicPr>
        <p:blipFill>
          <a:blip r:embed="rId3"/>
          <a:stretch/>
        </p:blipFill>
        <p:spPr>
          <a:xfrm>
            <a:off x="3995640" y="2997360"/>
            <a:ext cx="4969080" cy="3286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5651640" y="2349360"/>
            <a:ext cx="32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as Barockthe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8000" y="4149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as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ustschloss Bellarie mit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er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rehbaren Büh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0:44:14Z</dcterms:created>
  <dc:creator>Oem</dc:creator>
  <dc:description/>
  <dc:language>en-US</dc:language>
  <cp:lastModifiedBy>PC</cp:lastModifiedBy>
  <dcterms:modified xsi:type="dcterms:W3CDTF">2010-01-10T15:36:15Z</dcterms:modified>
  <cp:revision>20</cp:revision>
  <dc:subject/>
  <dc:title>Böhmisch Krumau </dc:title>
</cp:coreProperties>
</file>